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1"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0"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1"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2"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3"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0" name=""/>
          <p:cNvSpPr/>
          <p:nvPr/>
        </p:nvSpPr>
        <p:spPr>
          <a:xfrm>
            <a:off x="304920" y="533520"/>
            <a:ext cx="8534160" cy="631188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afd00"/>
                </a:solidFill>
                <a:latin typeface="Times New Roman"/>
                <a:cs typeface="Arial"/>
              </a:rPr>
              <a:t>الفصل </a:t>
            </a:r>
            <a:r>
              <a:rPr b="1" lang="ar-EG" sz="2400" spc="-1" strike="noStrike">
                <a:solidFill>
                  <a:srgbClr val="fafd00"/>
                </a:solidFill>
                <a:latin typeface="Times New Roman"/>
                <a:cs typeface="Times New Roman (Arabic)"/>
              </a:rPr>
              <a:t>الاول</a:t>
            </a:r>
            <a:r>
              <a:rPr b="1" lang="ar-EG" sz="2400" spc="-1" strike="noStrike">
                <a:solidFill>
                  <a:srgbClr val="fafd00"/>
                </a:solidFill>
                <a:latin typeface="Times New Roman"/>
                <a:ea typeface="Arial"/>
              </a:rPr>
              <a:t>: </a:t>
            </a:r>
            <a:r>
              <a:rPr b="1" lang="ar-EG" sz="2400" spc="-1" strike="noStrike">
                <a:solidFill>
                  <a:srgbClr val="fafd00"/>
                </a:solidFill>
                <a:latin typeface="Times New Roman"/>
                <a:cs typeface="Times New Roman (Arabic)"/>
              </a:rPr>
              <a:t>الهيكل التنظيمى</a:t>
            </a:r>
            <a:endParaRPr b="0" lang="en-US" sz="2400" spc="-1" strike="noStrike">
              <a:solidFill>
                <a:srgbClr val="ffffff"/>
              </a:solidFill>
              <a:latin typeface="Times New Roman"/>
            </a:endParaRPr>
          </a:p>
          <a:p>
            <a:pPr marL="287280" indent="-2872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cs typeface="Arial"/>
              </a:rPr>
              <a:t>النطـــــــــــــــــــــــــاق</a:t>
            </a:r>
            <a:endParaRPr b="0" lang="en-US" sz="2400" spc="-1" strike="noStrike">
              <a:solidFill>
                <a:srgbClr val="ffffff"/>
              </a:solidFill>
              <a:latin typeface="Times New Roman"/>
            </a:endParaRPr>
          </a:p>
          <a:p>
            <a:pPr marL="287280" indent="-2872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Arial"/>
              </a:rPr>
              <a:t>يجب أن يغطى الدارس فى نهاية هذا الفصل ما</a:t>
            </a:r>
            <a:r>
              <a:rPr b="0" lang="ar-SA" sz="2400" spc="-1" strike="noStrike">
                <a:solidFill>
                  <a:srgbClr val="fafd00"/>
                </a:solidFill>
                <a:latin typeface="Times New Roman"/>
                <a:ea typeface="Times New Roman (Arabic)"/>
              </a:rPr>
              <a:t> </a:t>
            </a:r>
            <a:r>
              <a:rPr b="0" lang="ar-SA" sz="2400" spc="-1" strike="noStrike">
                <a:solidFill>
                  <a:srgbClr val="fafd00"/>
                </a:solidFill>
                <a:latin typeface="Times New Roman"/>
                <a:cs typeface="Arial"/>
              </a:rPr>
              <a:t>يلى:</a:t>
            </a:r>
            <a:endParaRPr b="0" lang="en-US" sz="2400" spc="-1" strike="noStrike">
              <a:solidFill>
                <a:srgbClr val="ffffff"/>
              </a:solidFill>
              <a:latin typeface="Times New Roman"/>
            </a:endParaRPr>
          </a:p>
          <a:p>
            <a:pPr marL="287280" indent="-287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gn="just" rtl="1">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Arial"/>
                <a:cs typeface="Arial"/>
              </a:rPr>
              <a:t>الاهداف والإجراءات التنفيذية للجنة معايير المحاسبة الدولية</a:t>
            </a:r>
            <a:r>
              <a:rPr b="0" lang="ar-SA" sz="2400" spc="-1" strike="noStrike">
                <a:solidFill>
                  <a:srgbClr val="fafd00"/>
                </a:solidFill>
                <a:latin typeface="Arial"/>
                <a:ea typeface="Times New Roman (Arabic)"/>
              </a:rPr>
              <a:t> ودورها المتغير</a:t>
            </a:r>
            <a:r>
              <a:rPr b="0" lang="ar-SA" sz="2400" spc="-1" strike="noStrike">
                <a:solidFill>
                  <a:srgbClr val="fafd00"/>
                </a:solidFill>
                <a:latin typeface="Arial"/>
                <a:ea typeface="Arial"/>
              </a:rPr>
              <a:t>.</a:t>
            </a:r>
            <a:endParaRPr b="0" lang="en-US" sz="2400" spc="-1" strike="noStrike">
              <a:solidFill>
                <a:srgbClr val="ffffff"/>
              </a:solidFill>
              <a:latin typeface="Times New Roman"/>
            </a:endParaRPr>
          </a:p>
          <a:p>
            <a:pPr marL="287280" indent="-287280" algn="just" rtl="1">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Arial"/>
                <a:cs typeface="Arial"/>
              </a:rPr>
              <a:t>وصف دور وخصائص </a:t>
            </a:r>
            <a:r>
              <a:rPr b="0" lang="ar-SA" sz="2400" spc="-1" strike="noStrike">
                <a:solidFill>
                  <a:srgbClr val="fafd00"/>
                </a:solidFill>
                <a:latin typeface="Arial"/>
                <a:cs typeface="Times New Roman (Arabic)"/>
              </a:rPr>
              <a:t>إ</a:t>
            </a:r>
            <a:r>
              <a:rPr b="0" lang="ar-SA" sz="2400" spc="-1" strike="noStrike">
                <a:solidFill>
                  <a:srgbClr val="fafd00"/>
                </a:solidFill>
                <a:latin typeface="Arial"/>
                <a:cs typeface="Arial"/>
              </a:rPr>
              <a:t>طار </a:t>
            </a:r>
            <a:r>
              <a:rPr b="0" lang="ar-SA" sz="2400" spc="-1" strike="noStrike">
                <a:solidFill>
                  <a:srgbClr val="fafd00"/>
                </a:solidFill>
                <a:latin typeface="Arial"/>
                <a:cs typeface="Times New Roman (Arabic)"/>
              </a:rPr>
              <a:t>العمل الخاص بلجنة معايير المحاسبة الدولية.</a:t>
            </a:r>
            <a:endParaRPr b="0" lang="en-US" sz="2400" spc="-1" strike="noStrike">
              <a:solidFill>
                <a:srgbClr val="ffffff"/>
              </a:solidFill>
              <a:latin typeface="Times New Roman"/>
            </a:endParaRPr>
          </a:p>
          <a:p>
            <a:pPr marL="287280" indent="-287280" algn="just" rtl="1">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Arial"/>
                <a:cs typeface="Times New Roman (Arabic)"/>
              </a:rPr>
              <a:t>فهم وتطبيق نصوص معايير المحاسبة الدولية المتعلقة</a:t>
            </a:r>
            <a:r>
              <a:rPr b="0" lang="ar-SA" sz="2400" spc="-1" strike="noStrike">
                <a:solidFill>
                  <a:srgbClr val="fafd00"/>
                </a:solidFill>
                <a:latin typeface="Arial"/>
                <a:ea typeface="Arial"/>
              </a:rPr>
              <a:t> بإعداد وعرض القوائم المالية الصادر عن لجنة معايير المحاسبة الدولية.</a:t>
            </a:r>
            <a:endParaRPr b="0" lang="en-US" sz="2400" spc="-1" strike="noStrike">
              <a:solidFill>
                <a:srgbClr val="ffffff"/>
              </a:solidFill>
              <a:latin typeface="Times New Roman"/>
            </a:endParaRPr>
          </a:p>
          <a:p>
            <a:pPr marL="287280" indent="-287280" algn="just" rtl="1">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Arial"/>
                <a:cs typeface="Times New Roman (Arabic)"/>
              </a:rPr>
              <a:t>المتطلبات المختلفة لإعداد التقارير المالية للشركات الكبيرة والصغيرة</a:t>
            </a:r>
            <a:endParaRPr b="0" lang="en-US" sz="2400" spc="-1" strike="noStrike">
              <a:solidFill>
                <a:srgbClr val="ffffff"/>
              </a:solidFill>
              <a:latin typeface="Times New Roman"/>
            </a:endParaRPr>
          </a:p>
          <a:p>
            <a:pPr marL="287280" indent="-287280" algn="just" rtl="1">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7280" indent="-287280" algn="just" rtl="1">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228600" y="228600"/>
            <a:ext cx="8915400" cy="89478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إطار العام لإعداد وعرض </a:t>
            </a:r>
            <a:r>
              <a:rPr b="1" lang="ar-SA" sz="2400" spc="-1" strike="noStrike">
                <a:solidFill>
                  <a:srgbClr val="fafd00"/>
                </a:solidFill>
                <a:latin typeface="Times New Roman"/>
                <a:cs typeface="Times New Roman (Arabic)"/>
              </a:rPr>
              <a:t>القوائم</a:t>
            </a:r>
            <a:r>
              <a:rPr b="1" lang="ar-SA" sz="2400" spc="-1" strike="noStrike">
                <a:solidFill>
                  <a:srgbClr val="fafd00"/>
                </a:solidFill>
                <a:latin typeface="Times New Roman"/>
              </a:rPr>
              <a:t> المالية الصادر عن لجنة معايير المحاسبة الدولية</a:t>
            </a:r>
            <a:endParaRPr b="0" lang="en-US" sz="2400" spc="-1" strike="noStrike">
              <a:solidFill>
                <a:srgbClr val="ffffff"/>
              </a:solidFill>
              <a:latin typeface="Times New Roman"/>
            </a:endParaRPr>
          </a:p>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وثيقة تحدد المفاهيم الخاصة بإعداد وعرض القوائم المالية للمستخدمين الخارجيين)</a:t>
            </a:r>
            <a:endParaRPr b="0" lang="en-US" sz="2400" spc="-1" strike="noStrike">
              <a:solidFill>
                <a:srgbClr val="ffffff"/>
              </a:solidFill>
              <a:latin typeface="Times New Roman"/>
            </a:endParaRPr>
          </a:p>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هدف من الإطار العام</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مساعدة مجلس لجنة المعايير فى تطوير المعايير وفحص ومراجعة المعايير المطبقة.</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مساعدة فى تخفيض عدد بدائل المعالجات المحاسبية المسموح بها فى المعايير الدولية.</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مساعدة الهيئات الوطنية فى تطوير معاييرها المحلية.</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مساعدة معدى القوائم المالية على تطبيق المعايير والتعامل مع الأمور التى لم ترد بها.</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cs typeface="Arial"/>
              </a:rPr>
              <a:t>مساعدة المراجعين فى تكوين الرأى المهنى عن اتفاق القوائم المالية مع المعايير الدولية</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cs typeface="Arial"/>
              </a:rPr>
              <a:t>مساعدة مستخدمى القوائم المالية فى تفسير المعلومات الواردة فى القوائم المالية.</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cs typeface="Arial"/>
              </a:rPr>
              <a:t>إمداد الجهات المهتمة بعمل لجنة معايير المحاسبة الدولية بمعلومات عن أسلوب إعداد معايير المحاسبة الدولية. </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5943600" y="372960"/>
            <a:ext cx="10447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914400" y="380880"/>
            <a:ext cx="702612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موضوعات التى يتناولها الإطار العام لإعداد وعرض القوائم المالية</a:t>
            </a:r>
            <a:endParaRPr b="0" lang="en-US" sz="2400" spc="-1" strike="noStrike">
              <a:solidFill>
                <a:srgbClr val="ffffff"/>
              </a:solidFill>
              <a:latin typeface="Times New Roman"/>
            </a:endParaRPr>
          </a:p>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هـــــــــدف إعداد القوائم المالية</a:t>
            </a: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افتراضات الأساسية للمحاسبة</a:t>
            </a: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خصائص النوعية للقوائم المالية</a:t>
            </a: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عناصر</a:t>
            </a:r>
            <a:r>
              <a:rPr b="0" lang="ar-SA" sz="2400" spc="-1" strike="noStrike">
                <a:solidFill>
                  <a:srgbClr val="fafd00"/>
                </a:solidFill>
                <a:latin typeface="Times New Roman"/>
              </a:rPr>
              <a:t> القوائم المالية</a:t>
            </a: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التحقق أو الاعتراف بعناصر</a:t>
            </a:r>
            <a:r>
              <a:rPr b="0" lang="ar-SA" sz="2400" spc="-1" strike="noStrike">
                <a:solidFill>
                  <a:srgbClr val="fafd00"/>
                </a:solidFill>
                <a:latin typeface="Times New Roman"/>
              </a:rPr>
              <a:t> القوائم المالية</a:t>
            </a: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قياس عناصر القوائم المالية</a:t>
            </a: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مفهوم رأس المال و</a:t>
            </a:r>
            <a:r>
              <a:rPr b="0" lang="ar-SA" sz="2400" spc="-1" strike="noStrike">
                <a:solidFill>
                  <a:srgbClr val="fafd00"/>
                </a:solidFill>
                <a:latin typeface="Times New Roman"/>
                <a:cs typeface="Times New Roman (Arabic)"/>
              </a:rPr>
              <a:t>المحافظة</a:t>
            </a:r>
            <a:r>
              <a:rPr b="0" lang="ar-SA" sz="2400" spc="-1" strike="noStrike">
                <a:solidFill>
                  <a:srgbClr val="fafd00"/>
                </a:solidFill>
                <a:latin typeface="Times New Roman"/>
              </a:rPr>
              <a:t> على رأس الما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304920" y="380880"/>
            <a:ext cx="8458200" cy="63118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أهداف القوائم المال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هدف القوائم المالية الى توفير المعلومات الخاصة بالمركز المالى وعن الآداء والتغيرات فى المركز المالى والتى تكون مفيدة للعديد من مستخدمى تلك القوائم عند اتخاذ القرارات الاقتصادية.</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قوائم المالية ذات الأغراض العامة تفى </a:t>
            </a:r>
            <a:r>
              <a:rPr b="0" lang="ar-SA" sz="2400" spc="-1" strike="noStrike">
                <a:solidFill>
                  <a:srgbClr val="fafd00"/>
                </a:solidFill>
                <a:latin typeface="Times New Roman"/>
                <a:cs typeface="Times New Roman (Arabic)"/>
              </a:rPr>
              <a:t>بالاحتياجات</a:t>
            </a:r>
            <a:r>
              <a:rPr b="0" lang="ar-SA" sz="2400" spc="-1" strike="noStrike">
                <a:solidFill>
                  <a:srgbClr val="fafd00"/>
                </a:solidFill>
                <a:latin typeface="Times New Roman"/>
              </a:rPr>
              <a:t> العامة لمعظم مستخدمى تلك القوائم، إلا أنها لا تتيح كافة المعلومات التى يتطلبها مستخدمى القوائم المالية لاتخاذ القرارات الاقتصادية حيث انها تعطى صورة عامة عن أثار مالية لأحداث فى الماضى دون المستقبل وكذا لا توفر معلومات غير مالية.</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وضح القوائم المالية نتائج الأعمال وكيفية إدارة الموارد، وبالتالى فهى تفيد مستخدميها فى تقييم كفاءة الإدارة عند اتخاذ قرار اقتصادى مثل الاحتفاظ بالاستثمار أو التصرف فيه أو تعيين المديرين أو استبدالهم.</a:t>
            </a:r>
            <a:endParaRPr b="0" lang="en-US" sz="2400" spc="-1" strike="noStrike">
              <a:solidFill>
                <a:srgbClr val="ffffff"/>
              </a:solidFill>
              <a:latin typeface="Times New Roman"/>
            </a:endParaRPr>
          </a:p>
          <a:p>
            <a:pPr marL="108000" indent="-10800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380880" y="345960"/>
            <a:ext cx="8458200" cy="6311880"/>
          </a:xfrm>
          <a:prstGeom prst="rect">
            <a:avLst/>
          </a:prstGeom>
          <a:noFill/>
          <a:ln w="0">
            <a:noFill/>
          </a:ln>
        </p:spPr>
        <p:style>
          <a:lnRef idx="0"/>
          <a:fillRef idx="0"/>
          <a:effectRef idx="0"/>
          <a:fontRef idx="minor"/>
        </p:style>
        <p:txBody>
          <a:bodyPr lIns="90000" rIns="90000" tIns="46800" bIns="46800" anchor="t">
            <a:spAutoFit/>
          </a:bodyPr>
          <a:p>
            <a:pPr marL="23004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تابع: أهداف القوائم المالية</a:t>
            </a:r>
            <a:endParaRPr b="0" lang="en-US" sz="2400" spc="-1" strike="noStrike">
              <a:solidFill>
                <a:srgbClr val="ffffff"/>
              </a:solidFill>
              <a:latin typeface="Times New Roman"/>
            </a:endParaRPr>
          </a:p>
          <a:p>
            <a:pPr marL="23004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168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تطلب القرارات الاقتصادية التى تتخذ ضرورة تقييم مقدرة المنشأة على تحقيق تدفق نقدى وكذا توقيت تحقيق هذا التدفق ودرجة التأكد الخاصة به. ويمكن تحقيق ذلك إذا تم إمداد مستخدمى القوائم المالية بالمعلومات عن المركـــــز المالى والأداء المالى والتدفقات النقدية للمنشأة.</a:t>
            </a:r>
            <a:endParaRPr b="0" lang="en-US" sz="2400" spc="-1" strike="noStrike">
              <a:solidFill>
                <a:srgbClr val="ffffff"/>
              </a:solidFill>
              <a:latin typeface="Times New Roman"/>
            </a:endParaRPr>
          </a:p>
          <a:p>
            <a:pPr marL="230040" indent="-168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168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يتأثر المركز المالى بالموارد الاقتصادية التى تسيطر عليها المنشأة والهيكل المالى لها ودرجة السيولة أو الاعسار لها وكذا قدرتها على الموائمة مع التغيرات فيما يحيط بها.</a:t>
            </a:r>
            <a:endParaRPr b="0" lang="en-US" sz="2400" spc="-1" strike="noStrike">
              <a:solidFill>
                <a:srgbClr val="ffffff"/>
              </a:solidFill>
              <a:latin typeface="Times New Roman"/>
            </a:endParaRPr>
          </a:p>
          <a:p>
            <a:pPr marL="230040" indent="-168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168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تضمن المعلومات المتعلقة بالأداء العائد المحقق بواسطة المنشاة من الموارد الموضوعة تحت تصرفها.</a:t>
            </a:r>
            <a:endParaRPr b="0" lang="en-US" sz="2400" spc="-1" strike="noStrike">
              <a:solidFill>
                <a:srgbClr val="ffffff"/>
              </a:solidFill>
              <a:latin typeface="Times New Roman"/>
            </a:endParaRPr>
          </a:p>
          <a:p>
            <a:pPr marL="230040" indent="-168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168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فيد المعلومات المتعلقة بالتدفق النقدى فى تحديد القيم والمصادر الرئيسية للتدفقات النقدية الداخلة والخارج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04920" y="457200"/>
            <a:ext cx="8610480" cy="63118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تابع: أهداف القوائم المال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ميزانية</a:t>
            </a:r>
            <a:r>
              <a:rPr b="0" lang="ar-SA" sz="2400" spc="-1" strike="noStrike">
                <a:solidFill>
                  <a:srgbClr val="fafd00"/>
                </a:solidFill>
                <a:latin typeface="Times New Roman"/>
              </a:rPr>
              <a:t>	</a:t>
            </a:r>
            <a:r>
              <a:rPr b="0" lang="ar-SA" sz="2400" spc="-1" strike="noStrike">
                <a:solidFill>
                  <a:srgbClr val="fafd00"/>
                </a:solidFill>
                <a:latin typeface="Times New Roman"/>
              </a:rPr>
              <a:t>	</a:t>
            </a:r>
            <a:r>
              <a:rPr b="0" lang="ar-SA" sz="2400" spc="-1" strike="noStrike">
                <a:solidFill>
                  <a:srgbClr val="fafd00"/>
                </a:solidFill>
                <a:latin typeface="Times New Roman"/>
              </a:rPr>
              <a:t>	</a:t>
            </a:r>
            <a:r>
              <a:rPr b="0" lang="ar-SA" sz="2400" spc="-1" strike="noStrike">
                <a:solidFill>
                  <a:srgbClr val="fafd00"/>
                </a:solidFill>
                <a:latin typeface="Times New Roman"/>
              </a:rPr>
              <a:t>	</a:t>
            </a:r>
            <a:r>
              <a:rPr b="0" lang="ar-SA" sz="2400" spc="-1" strike="noStrike">
                <a:solidFill>
                  <a:srgbClr val="fafd00"/>
                </a:solidFill>
                <a:latin typeface="Times New Roman"/>
              </a:rPr>
              <a:t>توفر معلومات عن المركز المالى</a:t>
            </a:r>
            <a:endParaRPr b="0" lang="en-US" sz="2400" spc="-1" strike="noStrike">
              <a:solidFill>
                <a:srgbClr val="ffffff"/>
              </a:solidFill>
              <a:latin typeface="Times New Roman"/>
            </a:endParaRPr>
          </a:p>
          <a:p>
            <a:pPr marL="108000" indent="-10800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فائمتى الدخل والتغير فى حقوق الملكية</a:t>
            </a:r>
            <a:r>
              <a:rPr b="0" lang="ar-SA" sz="2400" spc="-1" strike="noStrike">
                <a:solidFill>
                  <a:srgbClr val="fafd00"/>
                </a:solidFill>
                <a:latin typeface="Times New Roman"/>
              </a:rPr>
              <a:t>	</a:t>
            </a:r>
            <a:r>
              <a:rPr b="0" lang="ar-SA" sz="2400" spc="-1" strike="noStrike">
                <a:solidFill>
                  <a:srgbClr val="fafd00"/>
                </a:solidFill>
                <a:latin typeface="Times New Roman"/>
              </a:rPr>
              <a:t>توفر معلومات عن الأداء.</a:t>
            </a:r>
            <a:endParaRPr b="0" lang="en-US" sz="2400" spc="-1" strike="noStrike">
              <a:solidFill>
                <a:srgbClr val="ffffff"/>
              </a:solidFill>
              <a:latin typeface="Times New Roman"/>
            </a:endParaRPr>
          </a:p>
          <a:p>
            <a:pPr marL="108000" indent="-10800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قائمة التدفقات النقدية</a:t>
            </a:r>
            <a:r>
              <a:rPr b="0" lang="ar-SA" sz="2400" spc="-1" strike="noStrike">
                <a:solidFill>
                  <a:srgbClr val="fafd00"/>
                </a:solidFill>
                <a:latin typeface="Times New Roman"/>
              </a:rPr>
              <a:t>	</a:t>
            </a:r>
            <a:r>
              <a:rPr b="0" lang="ar-SA" sz="2400" spc="-1" strike="noStrike">
                <a:solidFill>
                  <a:srgbClr val="fafd00"/>
                </a:solidFill>
                <a:latin typeface="Times New Roman"/>
              </a:rPr>
              <a:t>	</a:t>
            </a:r>
            <a:r>
              <a:rPr b="0" lang="ar-SA" sz="2400" spc="-1" strike="noStrike">
                <a:solidFill>
                  <a:srgbClr val="fafd00"/>
                </a:solidFill>
                <a:latin typeface="Times New Roman"/>
              </a:rPr>
              <a:t>	</a:t>
            </a:r>
            <a:r>
              <a:rPr b="0" lang="ar-SA" sz="2400" spc="-1" strike="noStrike">
                <a:solidFill>
                  <a:srgbClr val="fafd00"/>
                </a:solidFill>
                <a:latin typeface="Times New Roman"/>
              </a:rPr>
              <a:t>توفر معلومات عن التدفقات النقدية</a:t>
            </a:r>
            <a:endParaRPr b="0" lang="en-US" sz="2400" spc="-1" strike="noStrike">
              <a:solidFill>
                <a:srgbClr val="ffffff"/>
              </a:solidFill>
              <a:latin typeface="Times New Roman"/>
            </a:endParaRPr>
          </a:p>
          <a:p>
            <a:pPr marL="108000" indent="-10800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حتوى القوائم المالية على معلومات مفيدة فى تقييم القدرة على الموائمة من الناحية المالية.</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على الرغم من ان كل قائمة توفر معلومات مختلفة عن القوائم الاخرى ، إلا أنه لا توجد قائمة واحدة تخدم هدف وحيد محدد أو تحتوى على كافة المعلومات المطلوبة.</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حتوى القوائم المالية أيضا على إيضاحات وبيانات تكميلية ومعلومات اخرى مفيدة. </a:t>
            </a:r>
            <a:r>
              <a:rPr b="0" lang="ar-SA" sz="2400" spc="-1" strike="noStrike">
                <a:solidFill>
                  <a:srgbClr val="fafd00"/>
                </a:solidFill>
                <a:latin typeface="Times New Roman"/>
              </a:rPr>
              <a:t>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685800" y="609480"/>
            <a:ext cx="7848720" cy="63118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مستخدمو القوائم المالي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مستثمرين فى حقوق الملكية ( الحاليين والمرتقبين)</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مقرضين الحاليين والمرتقبين بما فى ذلك أصحاب القروض قصيرة الأجل.</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محللين والاستشاريين بما فى ذلك الصحفيين والاقتصاديين والاتحادات العمالية وسماسرة الاوراق المالية ومؤسسات تحديد الجدارة الائتمانية.</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جهات المتعاملة مع المنشاة مثل العملاء والموردين والمنافسين.</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هيئات الحكومية ومنها مصلحة الضرائب.</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جمهور بصفة عام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304920" y="727200"/>
            <a:ext cx="800100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افتراضات الأساسية للمحاسب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أساس الاستحقاق</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طبقا لأساس الا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فرض استمرارية المنشا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تفترض المحاسبة أن المنشاة تعتبر وحدة محاسبية مستمرة بمعنى أنه ليس لديها الحاجة أو النية الى تصفية أو تقليص نطاق عملياتها بدرجة كبيرة.</a:t>
            </a:r>
            <a:endParaRPr b="0" lang="en-US" sz="2400" spc="-1" strike="noStrike">
              <a:solidFill>
                <a:srgbClr val="ffffff"/>
              </a:solidFill>
              <a:latin typeface="Times New Roman"/>
            </a:endParaRPr>
          </a:p>
          <a:p>
            <a:pPr marL="457200" indent="-45720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533520" y="762120"/>
            <a:ext cx="7543800" cy="4117320"/>
          </a:xfrm>
          <a:prstGeom prst="rect">
            <a:avLst/>
          </a:prstGeom>
          <a:noFill/>
          <a:ln w="0">
            <a:noFill/>
          </a:ln>
        </p:spPr>
        <p:style>
          <a:lnRef idx="0"/>
          <a:fillRef idx="0"/>
          <a:effectRef idx="0"/>
          <a:fontRef idx="minor"/>
        </p:style>
        <p:txBody>
          <a:bodyPr lIns="90000" rIns="90000" tIns="46800" bIns="46800" anchor="t">
            <a:spAutoFit/>
          </a:bodyPr>
          <a:p>
            <a:pPr marL="568440" indent="-3384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خصائص النوعية للقوائم المالية</a:t>
            </a:r>
            <a:endParaRPr b="0" lang="en-US" sz="2400" spc="-1" strike="noStrike">
              <a:solidFill>
                <a:srgbClr val="ffffff"/>
              </a:solidFill>
              <a:latin typeface="Times New Roman"/>
            </a:endParaRPr>
          </a:p>
          <a:p>
            <a:pPr marL="568440" indent="-338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8440" indent="-338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8440" indent="-338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عرف الخصائص النوعية للقوائم المالية بأنها المقومات التى من شأنها:</a:t>
            </a:r>
            <a:endParaRPr b="0" lang="en-US" sz="2400" spc="-1" strike="noStrike">
              <a:solidFill>
                <a:srgbClr val="ffffff"/>
              </a:solidFill>
              <a:latin typeface="Times New Roman"/>
            </a:endParaRPr>
          </a:p>
          <a:p>
            <a:pPr marL="568440" indent="-338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8440" indent="-33840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أن  تجعل </a:t>
            </a:r>
            <a:r>
              <a:rPr b="1" lang="ar-SA" sz="2400" spc="-1" strike="noStrike">
                <a:solidFill>
                  <a:srgbClr val="fafd00"/>
                </a:solidFill>
                <a:latin typeface="Times New Roman"/>
              </a:rPr>
              <a:t>المعلومات</a:t>
            </a:r>
            <a:r>
              <a:rPr b="0" lang="ar-SA" sz="2400" spc="-1" strike="noStrike">
                <a:solidFill>
                  <a:srgbClr val="fafd00"/>
                </a:solidFill>
                <a:latin typeface="Times New Roman"/>
              </a:rPr>
              <a:t> الواردة بالقوائم المالية ذو فائدة للآخرين.</a:t>
            </a:r>
            <a:endParaRPr b="0" lang="en-US" sz="2400" spc="-1" strike="noStrike">
              <a:solidFill>
                <a:srgbClr val="ffffff"/>
              </a:solidFill>
              <a:latin typeface="Times New Roman"/>
            </a:endParaRPr>
          </a:p>
          <a:p>
            <a:pPr lvl="1" marL="1270080" indent="-465120" algn="just" rtl="1">
              <a:lnSpc>
                <a:spcPct val="100000"/>
              </a:lnSpc>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8440" indent="-33840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ن تجعل </a:t>
            </a:r>
            <a:r>
              <a:rPr b="1" lang="ar-SA" sz="2400" spc="-1" strike="noStrike">
                <a:solidFill>
                  <a:srgbClr val="fafd00"/>
                </a:solidFill>
                <a:latin typeface="Times New Roman"/>
              </a:rPr>
              <a:t>أسلوب عرض المعلومات</a:t>
            </a:r>
            <a:r>
              <a:rPr b="0" lang="ar-SA" sz="2400" spc="-1" strike="noStrike">
                <a:solidFill>
                  <a:srgbClr val="fafd00"/>
                </a:solidFill>
                <a:latin typeface="Times New Roman"/>
              </a:rPr>
              <a:t> المالية بالقوائم المالية مفيدا للآخر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0" y="41400"/>
            <a:ext cx="8991720" cy="5488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خصائص المميزة للمعلومات المحاسب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الأهمية النسبية</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المعلومات الغير مهمة غير مفيدة</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ماذا يجعل المعلومات المالية مفيد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المـلائمة</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إمكانية الاعتماد عل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ماذا يجعل المعلومة ملائمة</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ماذا يجعل المعلومة يمكن الاعتماد عليه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1800" spc="-1" strike="noStrike">
                <a:solidFill>
                  <a:srgbClr val="fafd00"/>
                </a:solidFill>
                <a:latin typeface="Times New Roman"/>
              </a:rPr>
              <a:t>( المعلومات التى تؤثر فى القرار)</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 المعلومات التى تخلو من الأخطاء والتحيز)</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قيمة يمكن </a:t>
            </a:r>
            <a:r>
              <a:rPr b="0" lang="ar-SA" sz="1800" spc="-1" strike="noStrike">
                <a:solidFill>
                  <a:srgbClr val="fafd00"/>
                </a:solidFill>
                <a:latin typeface="Times New Roman"/>
              </a:rPr>
              <a:t>	</a:t>
            </a:r>
            <a:r>
              <a:rPr b="0" lang="ar-SA" sz="1800" spc="-1" strike="noStrike">
                <a:solidFill>
                  <a:srgbClr val="fafd00"/>
                </a:solidFill>
                <a:latin typeface="Times New Roman"/>
              </a:rPr>
              <a:t>      مصداقية القيمة</a:t>
            </a:r>
            <a:r>
              <a:rPr b="0" lang="ar-SA" sz="1800" spc="-1" strike="noStrike">
                <a:solidFill>
                  <a:srgbClr val="fafd00"/>
                </a:solidFill>
                <a:latin typeface="Times New Roman"/>
              </a:rPr>
              <a:t>	</a:t>
            </a:r>
            <a:r>
              <a:rPr b="0" lang="ar-SA" sz="1800" spc="-1" strike="noStrike">
                <a:solidFill>
                  <a:srgbClr val="fafd00"/>
                </a:solidFill>
                <a:latin typeface="Times New Roman"/>
              </a:rPr>
              <a:t> اختيار بين المفردات</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مكتملـــ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التنبؤ بها</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  أو العناصر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متحفظ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محايد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علاقة متداخلة</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التعبير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الصادق</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تهتم بالمحتوى</a:t>
            </a:r>
            <a:r>
              <a:rPr b="0" lang="ar-SA" sz="1800" spc="-1" strike="noStrike">
                <a:solidFill>
                  <a:srgbClr val="fafd00"/>
                </a:solidFill>
                <a:latin typeface="Times New Roman"/>
              </a:rPr>
              <a:t>	</a:t>
            </a:r>
            <a:r>
              <a:rPr b="0" lang="ar-SA" sz="1800" spc="-1" strike="noStrike">
                <a:solidFill>
                  <a:srgbClr val="fafd00"/>
                </a:solidFill>
                <a:latin typeface="Times New Roman"/>
              </a:rPr>
              <a:t>   </a:t>
            </a:r>
            <a:endParaRPr b="0" lang="en-US" sz="1800" spc="-1" strike="noStrike">
              <a:solidFill>
                <a:srgbClr val="ffffff"/>
              </a:solidFill>
              <a:latin typeface="Times New Roman"/>
            </a:endParaRPr>
          </a:p>
        </p:txBody>
      </p:sp>
      <p:sp>
        <p:nvSpPr>
          <p:cNvPr id="99" name=""/>
          <p:cNvSpPr/>
          <p:nvPr/>
        </p:nvSpPr>
        <p:spPr>
          <a:xfrm flipH="1">
            <a:off x="7467480" y="68580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H="1">
            <a:off x="380520" y="68580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flipH="1">
            <a:off x="3124080" y="914400"/>
            <a:ext cx="289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flipH="1">
            <a:off x="380520" y="106668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flipH="1">
            <a:off x="7467480" y="106668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H="1">
            <a:off x="3124080" y="1295280"/>
            <a:ext cx="289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71800" y="685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80880" y="685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019920" y="9144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124080" y="9144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8839080" y="685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7467480" y="685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H="1">
            <a:off x="1600200" y="182880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flipH="1">
            <a:off x="7162920" y="21337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flipH="1">
            <a:off x="1600200" y="220968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flipH="1">
            <a:off x="7162920" y="17524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8077320" y="17524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600200" y="1828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3505320" y="1828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162920" y="1828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H="1">
            <a:off x="762120" y="32767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flipH="1">
            <a:off x="1371240" y="38098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H="1">
            <a:off x="3352320" y="43434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H="1">
            <a:off x="3962160" y="5181480"/>
            <a:ext cx="1447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H="1">
            <a:off x="685800" y="35812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flipH="1">
            <a:off x="1371240" y="41148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H="1">
            <a:off x="3276720" y="502920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H="1">
            <a:off x="3962160" y="55627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H="1">
            <a:off x="7924680" y="3276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H="1">
            <a:off x="6400800" y="32767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H="1">
            <a:off x="4495320" y="32767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H="1">
            <a:off x="8001000" y="39625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flipH="1">
            <a:off x="6400800" y="37339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H="1">
            <a:off x="4495320" y="39625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8610480" y="4038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6629400" y="380988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676520" y="3276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H="1">
            <a:off x="685800" y="3276720"/>
            <a:ext cx="7632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438280" y="3809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371600" y="38098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flipH="1">
            <a:off x="3276360" y="4343400"/>
            <a:ext cx="7596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038480" y="43434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410080" y="5181480"/>
            <a:ext cx="763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3962520" y="51814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H="1">
            <a:off x="2590560" y="4114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flipH="1">
            <a:off x="2514240" y="44956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H="1">
            <a:off x="2514600" y="4114800"/>
            <a:ext cx="763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276720" y="4114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8915400" y="3276720"/>
            <a:ext cx="763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7924680" y="3276720"/>
            <a:ext cx="763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696080" y="3276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6400800" y="3276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6172200" y="3276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4495680" y="3276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6629400" y="45720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H="1">
            <a:off x="830592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flipH="1">
            <a:off x="6095880" y="838080"/>
            <a:ext cx="1371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495680" y="1371600"/>
            <a:ext cx="25146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H="1">
            <a:off x="3581280" y="137160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H="1">
            <a:off x="1752480" y="3124080"/>
            <a:ext cx="6098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1905120" y="35053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2514600" y="3886200"/>
            <a:ext cx="3049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114800" y="4648320"/>
            <a:ext cx="6094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3352680" y="4114800"/>
            <a:ext cx="3049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flipH="1">
            <a:off x="5638320" y="3048120"/>
            <a:ext cx="16765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7315200" y="3048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7315200" y="3048120"/>
            <a:ext cx="106668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66" name=""/>
          <p:cNvSpPr/>
          <p:nvPr/>
        </p:nvSpPr>
        <p:spPr>
          <a:xfrm>
            <a:off x="152280" y="41400"/>
            <a:ext cx="8839440" cy="631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خصائص </a:t>
            </a:r>
            <a:r>
              <a:rPr b="0" lang="ar-SA" sz="2400" spc="-1" strike="noStrike">
                <a:solidFill>
                  <a:srgbClr val="fafd00"/>
                </a:solidFill>
                <a:latin typeface="Times New Roman"/>
                <a:cs typeface="Times New Roman (Arabic)"/>
              </a:rPr>
              <a:t>المتعلقة بتصوير القوائم وفهمها ومقارنتها</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rPr>
              <a:t> </a:t>
            </a:r>
            <a:r>
              <a:rPr b="0" lang="ar-SA" sz="1800" spc="-1" strike="noStrike">
                <a:solidFill>
                  <a:srgbClr val="fafd00"/>
                </a:solidFill>
                <a:latin typeface="Times New Roman"/>
                <a:cs typeface="Times New Roman (Arabic)"/>
              </a:rPr>
              <a:t>الخصائص التى تجعل إعداد المعلومات مفيدا</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cs typeface="Times New Roman (Arabic)"/>
              </a:rPr>
              <a:t>القابلية للمقارنة</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ea typeface="Times New Roman (Arabic)"/>
              </a:rPr>
              <a:t>        القابلية للفهم</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2400" spc="-1" strike="noStrike">
                <a:solidFill>
                  <a:srgbClr val="fafd00"/>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ea typeface="Times New Roman (Arabic)"/>
              </a:rPr>
              <a:t>          الافصاح</a:t>
            </a:r>
            <a:r>
              <a:rPr b="0" lang="ar-SA" sz="1800" spc="-1" strike="noStrike">
                <a:solidFill>
                  <a:srgbClr val="fafd00"/>
                </a:solidFill>
                <a:latin typeface="Times New Roman"/>
              </a:rPr>
              <a:t>	</a:t>
            </a:r>
            <a:r>
              <a:rPr b="0" lang="ar-SA" sz="1800" spc="-1" strike="noStrike">
                <a:solidFill>
                  <a:srgbClr val="fafd00"/>
                </a:solidFill>
                <a:latin typeface="Times New Roman"/>
                <a:ea typeface="Times New Roman (Arabic)"/>
              </a:rPr>
              <a:t>       السياسات المحاسبية والارقام المقارنة      التجميع       قدرات المستخدم</a:t>
            </a:r>
            <a:r>
              <a:rPr b="0" lang="ar-SA" sz="1800" spc="-1" strike="noStrike">
                <a:solidFill>
                  <a:srgbClr val="fafd00"/>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ea typeface="Times New Roman (Arabic)"/>
              </a:rPr>
              <a:t>  التجانس</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cs typeface="Times New Roman (Arabic)"/>
              </a:rPr>
              <a:t>ما هى العوامل التى تحد من</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cs typeface="Times New Roman (Arabic)"/>
              </a:rPr>
              <a:t>تطبيق الخصائص النوعية</a:t>
            </a:r>
            <a:r>
              <a:rPr b="0" lang="ar-SA" sz="1800" spc="-1" strike="noStrike">
                <a:solidFill>
                  <a:srgbClr val="fafd00"/>
                </a:solidFill>
                <a:latin typeface="Times New Roman"/>
              </a:rPr>
              <a:t>	</a:t>
            </a:r>
            <a:r>
              <a:rPr b="0" lang="ar-SA" sz="1800" spc="-1" strike="noStrike">
                <a:solidFill>
                  <a:srgbClr val="fafd00"/>
                </a:solidFill>
                <a:latin typeface="Times New Roman"/>
              </a:rPr>
              <a:t>	</a:t>
            </a:r>
            <a:r>
              <a:rPr b="0" lang="ar-SA" sz="1800" spc="-1" strike="noStrike">
                <a:solidFill>
                  <a:srgbClr val="fafd00"/>
                </a:solidFill>
                <a:latin typeface="Times New Roman"/>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rPr>
              <a:t>	</a:t>
            </a:r>
            <a:r>
              <a:rPr b="0" lang="ar-SA" sz="1800" spc="-1" strike="noStrike">
                <a:solidFill>
                  <a:srgbClr val="fafd00"/>
                </a:solidFill>
                <a:latin typeface="Times New Roman"/>
                <a:cs typeface="Times New Roman (Arabic)"/>
              </a:rPr>
              <a:t>الموازنة بين الخصائص</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cs typeface="Times New Roman (Arabic)"/>
              </a:rPr>
              <a:t>التكلفة والعائد</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تقديم المعلومات فى الوقت المناسب</a:t>
            </a:r>
            <a:r>
              <a:rPr b="0" lang="ar-SA" sz="1800" spc="-1" strike="noStrike">
                <a:solidFill>
                  <a:srgbClr val="fafd00"/>
                </a:solidFill>
                <a:latin typeface="Times New Roman"/>
                <a:ea typeface="Times New Roman (Arabic)"/>
              </a:rPr>
              <a:t>	</a:t>
            </a:r>
            <a:r>
              <a:rPr b="0" lang="ar-SA" sz="1800" spc="-1" strike="noStrike">
                <a:solidFill>
                  <a:srgbClr val="fafd00"/>
                </a:solidFill>
                <a:latin typeface="Times New Roman"/>
                <a:ea typeface="Times New Roman (Arabic)"/>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67" name=""/>
          <p:cNvSpPr/>
          <p:nvPr/>
        </p:nvSpPr>
        <p:spPr>
          <a:xfrm>
            <a:off x="281952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640080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H="1">
            <a:off x="1600200" y="182880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flipH="1">
            <a:off x="7162560" y="21337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1600200" y="220968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flipH="1">
            <a:off x="7162560" y="175248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8305920" y="17524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1600200" y="1828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3505320" y="1828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7162920" y="1828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H="1">
            <a:off x="7924680" y="3276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flipH="1">
            <a:off x="6400800" y="32767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flipH="1">
            <a:off x="8001000" y="39625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flipH="1">
            <a:off x="6400800" y="37339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8915400" y="3276720"/>
            <a:ext cx="763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7924680" y="3276720"/>
            <a:ext cx="763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7696080" y="3276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6400800" y="3276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4495680" y="1371600"/>
            <a:ext cx="25146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H="1">
            <a:off x="3581280" y="137160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flipH="1">
            <a:off x="2819520" y="990720"/>
            <a:ext cx="3581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H="1">
            <a:off x="2819520" y="1371600"/>
            <a:ext cx="3581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flipH="1">
            <a:off x="7009920" y="2133720"/>
            <a:ext cx="685800" cy="10666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7696080" y="2133720"/>
            <a:ext cx="762120" cy="10666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H="1">
            <a:off x="2133720" y="3124080"/>
            <a:ext cx="761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a:off x="2133720" y="3733920"/>
            <a:ext cx="838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2895480" y="3124080"/>
            <a:ext cx="76320" cy="609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2133720" y="3124080"/>
            <a:ext cx="0" cy="609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H="1">
            <a:off x="533520" y="3124080"/>
            <a:ext cx="1371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905120" y="3124080"/>
            <a:ext cx="0" cy="609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33520" y="3124080"/>
            <a:ext cx="0" cy="609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H="1">
            <a:off x="533520" y="3733920"/>
            <a:ext cx="1371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3123720" y="3809880"/>
            <a:ext cx="2667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3123720" y="4419720"/>
            <a:ext cx="2667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791320" y="3809880"/>
            <a:ext cx="0" cy="609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3124080" y="3809880"/>
            <a:ext cx="0" cy="609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4495680" y="1371600"/>
            <a:ext cx="0" cy="1752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flipH="1">
            <a:off x="1218960" y="2209680"/>
            <a:ext cx="990360" cy="83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2209680" y="2209680"/>
            <a:ext cx="304920" cy="762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H="1">
            <a:off x="1295280" y="4648320"/>
            <a:ext cx="1371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2666880" y="4648320"/>
            <a:ext cx="0" cy="457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295280" y="4648320"/>
            <a:ext cx="0" cy="457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a:off x="1295280" y="5105520"/>
            <a:ext cx="1371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H="1">
            <a:off x="6171840" y="4572000"/>
            <a:ext cx="20574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flipH="1">
            <a:off x="3047760" y="5334120"/>
            <a:ext cx="2819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H="1">
            <a:off x="3047760" y="5867280"/>
            <a:ext cx="2895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5867280" y="5334120"/>
            <a:ext cx="76320" cy="5331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048120" y="5334120"/>
            <a:ext cx="0" cy="5331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a:off x="6171840" y="5029200"/>
            <a:ext cx="20574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229600" y="4572000"/>
            <a:ext cx="0" cy="457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172200" y="4572000"/>
            <a:ext cx="0" cy="457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5791320" y="4038480"/>
            <a:ext cx="1143000" cy="457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flipH="1">
            <a:off x="1828440" y="4114800"/>
            <a:ext cx="1219320" cy="457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419720" y="4419720"/>
            <a:ext cx="0" cy="838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685800" y="609480"/>
            <a:ext cx="7772400" cy="594612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معايير المحاسبة الدولية</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م تكوين لجنة معايير المحاسبة الدولية عام </a:t>
            </a:r>
            <a:r>
              <a:rPr b="0" lang="ar-SA" sz="2400" spc="-1" strike="noStrike">
                <a:solidFill>
                  <a:srgbClr val="fafd00"/>
                </a:solidFill>
                <a:latin typeface="Times New Roman"/>
              </a:rPr>
              <a:t>1973</a:t>
            </a:r>
            <a:r>
              <a:rPr b="0" lang="ar-SA" sz="2400" spc="-1" strike="noStrike">
                <a:solidFill>
                  <a:srgbClr val="fafd00"/>
                </a:solidFill>
                <a:latin typeface="Times New Roman"/>
              </a:rPr>
              <a:t> وتتكون من ممثلى الهيئات المحاسبية فى العالم </a:t>
            </a:r>
            <a:r>
              <a:rPr b="0" lang="ar-SA" sz="2400" spc="-1" strike="noStrike">
                <a:solidFill>
                  <a:srgbClr val="fafd00"/>
                </a:solidFill>
                <a:latin typeface="Times New Roman"/>
                <a:ea typeface="Times New Roman (Arabic)"/>
              </a:rPr>
              <a:t> وبها حاليا </a:t>
            </a:r>
            <a:r>
              <a:rPr b="0" lang="ar-SA" sz="2400" spc="-1" strike="noStrike">
                <a:solidFill>
                  <a:srgbClr val="fafd00"/>
                </a:solidFill>
                <a:latin typeface="Times New Roman"/>
                <a:ea typeface="Times New Roman (Arabic)"/>
              </a:rPr>
              <a:t>140</a:t>
            </a:r>
            <a:r>
              <a:rPr b="0" lang="ar-SA" sz="2400" spc="-1" strike="noStrike">
                <a:solidFill>
                  <a:srgbClr val="fafd00"/>
                </a:solidFill>
                <a:latin typeface="Times New Roman"/>
                <a:ea typeface="Times New Roman (Arabic)"/>
              </a:rPr>
              <a:t> عضوا من مائة دولة تقريبا.</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ليس من الضرورى لكل الدول التى فيها هيئات محاسبية أعضاء فى لجنة معايير المحاسبة الدولية أن تطبق معايير المحاسبة الدولية الصادرة عن اللجنة المذكورة</a:t>
            </a:r>
            <a:r>
              <a:rPr b="0" lang="ar-SA" sz="2400" spc="-1" strike="noStrike">
                <a:solidFill>
                  <a:srgbClr val="fafd00"/>
                </a:solidFill>
                <a:latin typeface="Times New Roman"/>
                <a:ea typeface="Times New Roman (Arabic)"/>
              </a:rPr>
              <a:t> باعتبار ان كثير من هذه الدول لديها معايير محلية خاصة بها.</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يتولى إدارة نشاط لجنة معايير المحاسبة الدولية مجلس مكون من مندوبى ما يقرب من ثلاثة عشر دولة بالإضافة الى بعض المنظمات التى لديها اهتمامات فى إعداد التقارير المالية يصل عددها الى اربعة منظمات (مثل المنظمة الدولية لهيئات سوق الما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21" name=""/>
          <p:cNvSpPr/>
          <p:nvPr/>
        </p:nvSpPr>
        <p:spPr>
          <a:xfrm>
            <a:off x="380880" y="270000"/>
            <a:ext cx="8458200" cy="7043400"/>
          </a:xfrm>
          <a:prstGeom prst="rect">
            <a:avLst/>
          </a:prstGeom>
          <a:noFill/>
          <a:ln w="0">
            <a:noFill/>
          </a:ln>
        </p:spPr>
        <p:style>
          <a:lnRef idx="0"/>
          <a:fillRef idx="0"/>
          <a:effectRef idx="0"/>
          <a:fontRef idx="minor"/>
        </p:style>
        <p:txBody>
          <a:bodyPr lIns="90000" rIns="90000" tIns="46800" bIns="46800" anchor="t">
            <a:spAutoFit/>
          </a:bodyPr>
          <a:p>
            <a:pPr marL="168120" indent="-106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أهمية النسبية</a:t>
            </a:r>
            <a:endParaRPr b="0" lang="en-US" sz="2400" spc="-1" strike="noStrike">
              <a:solidFill>
                <a:srgbClr val="ffffff"/>
              </a:solidFill>
              <a:latin typeface="Times New Roman"/>
            </a:endParaRPr>
          </a:p>
          <a:p>
            <a:pPr marL="168120" indent="-1062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يجب الاخذ فى الاعتبار الخاصية الأساسية قبل النظر الى الخصائص الأخرى ، فإذا لم تجتاز المعلومة الأهمية النسبية فإنه لا يجب النظر اليها.</a:t>
            </a:r>
            <a:endParaRPr b="0" lang="en-US" sz="2400" spc="-1" strike="noStrike">
              <a:solidFill>
                <a:srgbClr val="ffffff"/>
              </a:solidFill>
              <a:latin typeface="Times New Roman"/>
            </a:endParaRPr>
          </a:p>
          <a:p>
            <a:pPr marL="168120" indent="-1062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عتبر المعلومة مهمة إذا كان حذفها أو الخطأ فى عرضها يمكن أن يؤثر على القرارات الاقتصادية التى يتخذها مستخدمى القوائم المالية.</a:t>
            </a:r>
            <a:endParaRPr b="0" lang="en-US" sz="2400" spc="-1" strike="noStrike">
              <a:solidFill>
                <a:srgbClr val="ffffff"/>
              </a:solidFill>
              <a:latin typeface="Times New Roman"/>
            </a:endParaRPr>
          </a:p>
          <a:p>
            <a:pPr marL="16812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ملائمـــــــة</a:t>
            </a:r>
            <a:endParaRPr b="0" lang="en-US" sz="2400" spc="-1" strike="noStrike">
              <a:solidFill>
                <a:srgbClr val="ffffff"/>
              </a:solidFill>
              <a:latin typeface="Times New Roman"/>
            </a:endParaRPr>
          </a:p>
          <a:p>
            <a:pPr marL="16812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توفر خاصية الملائمة فى المعلومات حينما تؤثر فى القرارات الاقتصادية لمستخدمى القوائم المالية بمساعدتهم فى تقييم الأحداث الماضية والحاضرة والمستقبلية أو لتأكيد وتصحيح تقييمهم السابق. (أهمية عرض العناصر غير العادية بصورة منفصلة عن الأنشطة التشغيلية بقائمة الدخل).</a:t>
            </a:r>
            <a:endParaRPr b="0" lang="en-US" sz="2400" spc="-1" strike="noStrike">
              <a:solidFill>
                <a:srgbClr val="ffffff"/>
              </a:solidFill>
              <a:latin typeface="Times New Roman"/>
            </a:endParaRPr>
          </a:p>
          <a:p>
            <a:pPr marL="16812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إمكانية الاعتماد على المعلومة</a:t>
            </a:r>
            <a:endParaRPr b="0" lang="en-US" sz="2400" spc="-1" strike="noStrike">
              <a:solidFill>
                <a:srgbClr val="ffffff"/>
              </a:solidFill>
              <a:latin typeface="Times New Roman"/>
            </a:endParaRPr>
          </a:p>
          <a:p>
            <a:pPr marL="168120" indent="-106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يمكن الاعتماد على المعلومة عندما تكون خالية من الاخطاء الهامة وتكون غير منحازة وتم الإفصاح عنها بأمانة</a:t>
            </a:r>
            <a:r>
              <a:rPr b="0" lang="en-US" sz="2400" spc="-1" strike="noStrike">
                <a:solidFill>
                  <a:srgbClr val="fafd00"/>
                </a:solidFill>
                <a:latin typeface="Times New Roman"/>
              </a:rPr>
              <a:t> </a:t>
            </a:r>
            <a:r>
              <a:rPr b="0" lang="ar-SA" sz="2400" spc="-1" strike="noStrike">
                <a:solidFill>
                  <a:srgbClr val="fafd00"/>
                </a:solidFill>
                <a:latin typeface="Arial"/>
                <a:cs typeface="Arial"/>
              </a:rPr>
              <a:t>وبشكل</a:t>
            </a:r>
            <a:r>
              <a:rPr b="0" lang="ar-SA" sz="2400" spc="-1" strike="noStrike">
                <a:solidFill>
                  <a:srgbClr val="fafd00"/>
                </a:solidFill>
                <a:latin typeface="Times New Roman"/>
              </a:rPr>
              <a:t> صحيح وتوفر العرض الصادق المتوقع منها ، او الذى يكون متوقع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22" name=""/>
          <p:cNvSpPr/>
          <p:nvPr/>
        </p:nvSpPr>
        <p:spPr>
          <a:xfrm>
            <a:off x="380880" y="304920"/>
            <a:ext cx="8458200" cy="6707880"/>
          </a:xfrm>
          <a:prstGeom prst="rect">
            <a:avLst/>
          </a:prstGeom>
          <a:noFill/>
          <a:ln w="0">
            <a:noFill/>
          </a:ln>
        </p:spPr>
        <p:style>
          <a:lnRef idx="0"/>
          <a:fillRef idx="0"/>
          <a:effectRef idx="0"/>
          <a:fontRef idx="minor"/>
        </p:style>
        <p:txBody>
          <a:bodyPr lIns="90000" rIns="90000" tIns="46800" bIns="46800" anchor="t">
            <a:spAutoFit/>
          </a:bodyPr>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قابلية للمقارنة</a:t>
            </a:r>
            <a:endParaRPr b="0" lang="en-US" sz="2400" spc="-1" strike="noStrike">
              <a:solidFill>
                <a:srgbClr val="ffffff"/>
              </a:solidFill>
              <a:latin typeface="Times New Roman"/>
            </a:endParaRPr>
          </a:p>
          <a:p>
            <a:pPr marL="108000" indent="-108000" algn="just" rtl="1">
              <a:spcBef>
                <a:spcPts val="15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يجب أن يتمكن مستخدمى القوائم المالية من إجراء مقارنة لمحتويات القوائم المالية للمنشأة على مدار فترات زمنية لتحديد اتجاهات وتطورات عناصر المركز المالى ونتائج الأعمال. كما يجب إمكانية إجراء المقارنة للقوائم المالية للمنشآت المختلفة للوقوف على مراكزها المالية ونتائج اعمالها. لذا فإن الثبات فى أسلوب إعداد القوائم أمر ضرورى.</a:t>
            </a:r>
            <a:endParaRPr b="0" lang="en-US" sz="2400" spc="-1" strike="noStrike">
              <a:solidFill>
                <a:srgbClr val="ffffff"/>
              </a:solidFill>
              <a:latin typeface="Times New Roman"/>
            </a:endParaRPr>
          </a:p>
          <a:p>
            <a:pPr marL="108000" indent="-108000" algn="just" rtl="1">
              <a:spcBef>
                <a:spcPts val="15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إخطار مستخدمى القوائم المالية بالسياسات المحاسبية المستخدمة وأى تغيير فى هذه السياسات واثره والالتزام بالمعايير المحاسبية يساعد فى تحقيق القابلية للمقارنة</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قابلية للفهــم</a:t>
            </a:r>
            <a:endParaRPr b="0" lang="en-US" sz="2400" spc="-1" strike="noStrike">
              <a:solidFill>
                <a:srgbClr val="ffffff"/>
              </a:solidFill>
              <a:latin typeface="Times New Roman"/>
            </a:endParaRPr>
          </a:p>
          <a:p>
            <a:pPr marL="108000" indent="-108000" algn="just" rtl="1">
              <a:spcBef>
                <a:spcPts val="15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يجب عرض المعلومات بطريقة واضحة يكون من السهل فهم مضمونها، وفى هذا الإطار ينبغى أن يتوافر لدى مستخدمى القوائم المالية القدرة والمعلومات المناسبة عن طبيعة نشاط المنشأة والمحاسبة بالإضافة الى الرغبة فى دراسة المعلومات بعناية مقبول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23" name=""/>
          <p:cNvSpPr/>
          <p:nvPr/>
        </p:nvSpPr>
        <p:spPr>
          <a:xfrm>
            <a:off x="533520" y="650880"/>
            <a:ext cx="7696080" cy="460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محددات الخاصة بالمعلومات الملائمة والتى يمكن الأعتماد عليها</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ما هى محددات تطبيق الخصائص النوع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afd00"/>
                </a:solidFill>
                <a:latin typeface="Times New Roman"/>
              </a:rPr>
              <a:t>التوازن بين الخصائص</a:t>
            </a:r>
            <a:r>
              <a:rPr b="1" lang="ar-SA" sz="2000" spc="-1" strike="noStrike">
                <a:solidFill>
                  <a:srgbClr val="fafd00"/>
                </a:solidFill>
                <a:latin typeface="Times New Roman"/>
              </a:rPr>
              <a:t>	</a:t>
            </a:r>
            <a:r>
              <a:rPr b="1" lang="ar-SA" sz="2000" spc="-1" strike="noStrike">
                <a:solidFill>
                  <a:srgbClr val="fafd00"/>
                </a:solidFill>
                <a:latin typeface="Times New Roman"/>
              </a:rPr>
              <a:t>تقديم المعلومات فى</a:t>
            </a:r>
            <a:r>
              <a:rPr b="1" lang="ar-SA" sz="2000" spc="-1" strike="noStrike">
                <a:solidFill>
                  <a:srgbClr val="fafd00"/>
                </a:solidFill>
                <a:latin typeface="Times New Roman"/>
              </a:rPr>
              <a:t>	</a:t>
            </a:r>
            <a:r>
              <a:rPr b="1" lang="ar-SA" sz="2000" spc="-1" strike="noStrike">
                <a:solidFill>
                  <a:srgbClr val="fafd00"/>
                </a:solidFill>
                <a:latin typeface="Times New Roman"/>
              </a:rPr>
              <a:t>	</a:t>
            </a:r>
            <a:r>
              <a:rPr b="1" lang="ar-SA" sz="2000" spc="-1" strike="noStrike">
                <a:solidFill>
                  <a:srgbClr val="fafd00"/>
                </a:solidFill>
                <a:latin typeface="Times New Roman"/>
              </a:rPr>
              <a:t>مقارنة التكلفة بالعائد</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afd00"/>
                </a:solidFill>
                <a:latin typeface="Times New Roman"/>
              </a:rPr>
              <a:t>	</a:t>
            </a:r>
            <a:r>
              <a:rPr b="1" lang="ar-SA" sz="2000" spc="-1" strike="noStrike">
                <a:solidFill>
                  <a:srgbClr val="fafd00"/>
                </a:solidFill>
                <a:latin typeface="Times New Roman"/>
              </a:rPr>
              <a:t>	</a:t>
            </a:r>
            <a:r>
              <a:rPr b="1" lang="ar-SA" sz="2000" spc="-1" strike="noStrike">
                <a:solidFill>
                  <a:srgbClr val="fafd00"/>
                </a:solidFill>
                <a:latin typeface="Times New Roman"/>
              </a:rPr>
              <a:t>	</a:t>
            </a:r>
            <a:r>
              <a:rPr b="1" lang="ar-SA" sz="2000" spc="-1" strike="noStrike">
                <a:solidFill>
                  <a:srgbClr val="fafd00"/>
                </a:solidFill>
                <a:latin typeface="Times New Roman"/>
              </a:rPr>
              <a:t>الوقت المناسب</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4" name=""/>
          <p:cNvSpPr/>
          <p:nvPr/>
        </p:nvSpPr>
        <p:spPr>
          <a:xfrm flipH="1">
            <a:off x="6095520" y="350532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flipH="1">
            <a:off x="3580920" y="350532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flipH="1">
            <a:off x="685800" y="350532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flipH="1">
            <a:off x="1981080" y="1676520"/>
            <a:ext cx="502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flipH="1">
            <a:off x="6095520" y="426708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715000" y="46483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flipH="1">
            <a:off x="3580920" y="426708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flipH="1">
            <a:off x="685800" y="42670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flipH="1">
            <a:off x="1981080" y="24382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7010280" y="16765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981080" y="16765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2895480" y="3505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685800" y="3505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715000" y="3505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3581280" y="3505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095880" y="3505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8229600" y="3505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flipH="1">
            <a:off x="1905120" y="2590920"/>
            <a:ext cx="259056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4495680" y="25909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495680" y="2590920"/>
            <a:ext cx="251460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44" name=""/>
          <p:cNvSpPr/>
          <p:nvPr/>
        </p:nvSpPr>
        <p:spPr>
          <a:xfrm>
            <a:off x="6613560" y="49860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457200" y="533520"/>
            <a:ext cx="838188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محددات الخاصة بالمعلومات الملائمة والتى يمكن الاعتماد عليها</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حسين جودة المعلومة لا يتحقق إلا بتكلفة أو بتخفيض مستوى جودة خاصية أخرى)</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موازنة بين الخصائص النوعي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الهدف هو تحقيق التوازن الملائم بين الخصائص النوعية نحو تحقيق أهداف القوائم المالي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توفير المعلومات فى الوقت المناسب</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التأخر فى الإفصاح عن معلومة معينة قد يفقدها خاصية الملائم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عائد والتكلف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يتعين أن يفوق العائد المتوقع الحصول عليه من المعلومة تكلفة الحصول عل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46" name=""/>
          <p:cNvSpPr/>
          <p:nvPr/>
        </p:nvSpPr>
        <p:spPr>
          <a:xfrm>
            <a:off x="380880" y="727200"/>
            <a:ext cx="8229600" cy="375156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مفهوم العرض الصادق والحقيقى للقوائم المالية</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وفر القوائم المالية فى الأحوال العادية العرض الصادق والحقيقى للمركز المالى للمنشاة ونتائج أعمالها وتدفقاتها النقدية.</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إن الإطار العام لا يتعامل مع هذا المفهوم مباشرة إلا أن تطبيق المبادئ المتعلقة بالخصائص النوعية يجب أن ينتج عنه فى الظروف العادية قوائم مالية تحقق العرض الصادق والحقيقى للمعلومات ال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47" name=""/>
          <p:cNvSpPr/>
          <p:nvPr/>
        </p:nvSpPr>
        <p:spPr>
          <a:xfrm>
            <a:off x="1371600" y="990720"/>
            <a:ext cx="693432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afd00"/>
                </a:solidFill>
                <a:uFillTx/>
                <a:latin typeface="Times New Roman"/>
              </a:rPr>
              <a:t>عناصر القوائم المالية</a:t>
            </a:r>
            <a:endParaRPr b="0" lang="en-US" sz="2400" spc="-1" strike="noStrike">
              <a:solidFill>
                <a:srgbClr val="ffffff"/>
              </a:solidFill>
              <a:latin typeface="Times New Roman"/>
            </a:endParaRPr>
          </a:p>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أصـــــــــول</a:t>
            </a:r>
            <a:endParaRPr b="0" lang="en-US" sz="2400" spc="-1" strike="noStrike">
              <a:solidFill>
                <a:srgbClr val="ffffff"/>
              </a:solidFill>
              <a:latin typeface="Times New Roman"/>
            </a:endParaRPr>
          </a:p>
          <a:p>
            <a:pPr marL="457200" indent="-457200" algn="ct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إلتزامــــــــات</a:t>
            </a:r>
            <a:endParaRPr b="0" lang="en-US" sz="2400" spc="-1" strike="noStrike">
              <a:solidFill>
                <a:srgbClr val="ffffff"/>
              </a:solidFill>
              <a:latin typeface="Times New Roman"/>
            </a:endParaRPr>
          </a:p>
          <a:p>
            <a:pPr marL="457200" indent="-457200" algn="ct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حقـوق الملكيـــة</a:t>
            </a:r>
            <a:endParaRPr b="0" lang="en-US" sz="2400" spc="-1" strike="noStrike">
              <a:solidFill>
                <a:srgbClr val="ffffff"/>
              </a:solidFill>
              <a:latin typeface="Times New Roman"/>
            </a:endParaRPr>
          </a:p>
          <a:p>
            <a:pPr marL="457200" indent="-457200" algn="ct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إيــــــــرادات</a:t>
            </a:r>
            <a:endParaRPr b="0" lang="en-US" sz="2400" spc="-1" strike="noStrike">
              <a:solidFill>
                <a:srgbClr val="ffffff"/>
              </a:solidFill>
              <a:latin typeface="Times New Roman"/>
            </a:endParaRPr>
          </a:p>
          <a:p>
            <a:pPr marL="457200" indent="-457200" algn="ct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مصـــــ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48" name=""/>
          <p:cNvSpPr/>
          <p:nvPr/>
        </p:nvSpPr>
        <p:spPr>
          <a:xfrm>
            <a:off x="457200" y="345960"/>
            <a:ext cx="8229600" cy="558036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afd00"/>
                </a:solidFill>
                <a:latin typeface="Times New Roman"/>
                <a:cs typeface="Arial"/>
              </a:rPr>
              <a:t>الأصـــــــــول</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afd00"/>
                </a:solidFill>
                <a:latin typeface="Times New Roman"/>
                <a:ea typeface="Arial"/>
              </a:rPr>
              <a:t>” يعرف الأصل بأنه أحد الموارد التى توضع </a:t>
            </a:r>
            <a:r>
              <a:rPr b="0" lang="ar-EG" sz="2400" spc="-1" strike="noStrike" u="sng">
                <a:solidFill>
                  <a:srgbClr val="fafd00"/>
                </a:solidFill>
                <a:uFillTx/>
                <a:latin typeface="Times New Roman"/>
                <a:cs typeface="Arial"/>
              </a:rPr>
              <a:t>تحت تصرف المنشأة</a:t>
            </a:r>
            <a:r>
              <a:rPr b="0" lang="ar-EG" sz="2400" spc="-1" strike="noStrike">
                <a:solidFill>
                  <a:srgbClr val="fafd00"/>
                </a:solidFill>
                <a:latin typeface="Times New Roman"/>
                <a:ea typeface="Arial"/>
              </a:rPr>
              <a:t> </a:t>
            </a:r>
            <a:r>
              <a:rPr b="0" lang="ar-EG" sz="2400" spc="-1" strike="noStrike" u="sng">
                <a:solidFill>
                  <a:srgbClr val="fafd00"/>
                </a:solidFill>
                <a:uFillTx/>
                <a:latin typeface="Times New Roman"/>
                <a:cs typeface="Arial"/>
              </a:rPr>
              <a:t>نتيجة معاملات تاريخية</a:t>
            </a:r>
            <a:r>
              <a:rPr b="0" lang="ar-EG" sz="2400" spc="-1" strike="noStrike">
                <a:solidFill>
                  <a:srgbClr val="fafd00"/>
                </a:solidFill>
                <a:latin typeface="Times New Roman"/>
                <a:ea typeface="Arial"/>
              </a:rPr>
              <a:t> ويتوقع الحصول منه على </a:t>
            </a:r>
            <a:r>
              <a:rPr b="0" lang="ar-EG" sz="2400" spc="-1" strike="noStrike" u="sng">
                <a:solidFill>
                  <a:srgbClr val="fafd00"/>
                </a:solidFill>
                <a:uFillTx/>
                <a:latin typeface="Times New Roman"/>
                <a:cs typeface="Arial"/>
              </a:rPr>
              <a:t>منافع إقتصادية</a:t>
            </a:r>
            <a:r>
              <a:rPr b="0" lang="ar-EG" sz="2400" spc="-1" strike="noStrike">
                <a:solidFill>
                  <a:srgbClr val="fafd00"/>
                </a:solidFill>
                <a:latin typeface="Times New Roman"/>
                <a:ea typeface="Arial"/>
              </a:rPr>
              <a:t> </a:t>
            </a:r>
            <a:r>
              <a:rPr b="0" lang="ar-EG" sz="2400" spc="-1" strike="noStrike" u="sng">
                <a:solidFill>
                  <a:srgbClr val="fafd00"/>
                </a:solidFill>
                <a:uFillTx/>
                <a:latin typeface="Times New Roman"/>
                <a:cs typeface="Arial"/>
              </a:rPr>
              <a:t>مستقبلية</a:t>
            </a:r>
            <a:r>
              <a:rPr b="0" lang="ar-EG" sz="2400" spc="-1" strike="noStrike">
                <a:solidFill>
                  <a:srgbClr val="fafd00"/>
                </a:solidFill>
                <a:latin typeface="Times New Roman"/>
                <a:ea typeface="Arial"/>
              </a:rPr>
              <a:t> تتدفق على المنشاة “.</a:t>
            </a: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cs typeface="Arial"/>
              </a:rPr>
              <a:t>سيطرة أو تحكم المنشأة على الأصل</a:t>
            </a: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ea typeface="Arial"/>
              </a:rPr>
              <a:t>	</a:t>
            </a:r>
            <a:r>
              <a:rPr b="0" lang="ar-SA" sz="2400" spc="-1" strike="noStrike">
                <a:solidFill>
                  <a:srgbClr val="fafd00"/>
                </a:solidFill>
                <a:latin typeface="Times New Roman"/>
                <a:cs typeface="Arial"/>
              </a:rPr>
              <a:t>القدرة على الحصول على المنافع الاقتصادية مع منع الغير من الحصول عليها.</a:t>
            </a:r>
            <a:endParaRPr b="0" lang="en-US" sz="2400" spc="-1" strike="noStrike">
              <a:solidFill>
                <a:srgbClr val="ffffff"/>
              </a:solidFill>
              <a:latin typeface="Times New Roman"/>
            </a:endParaRPr>
          </a:p>
          <a:p>
            <a:pPr marL="457200" indent="-457200" algn="just" rtl="1">
              <a:buClr>
                <a:srgbClr val="fafd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cs typeface="Arial"/>
              </a:rPr>
              <a:t>الأحداث التاريخية المرتبطة بالأصل</a:t>
            </a: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ea typeface="Arial"/>
              </a:rPr>
              <a:t>	</a:t>
            </a:r>
            <a:r>
              <a:rPr b="0" lang="ar-SA" sz="2400" spc="-1" strike="noStrike">
                <a:solidFill>
                  <a:srgbClr val="fafd00"/>
                </a:solidFill>
                <a:latin typeface="Times New Roman"/>
                <a:cs typeface="Arial"/>
              </a:rPr>
              <a:t>يتعين ان يكون الاصل ناتجا عن أحداث ماضية (انتقال حق ملكية أصل قبل بداية استلامه أو استخدامه).</a:t>
            </a:r>
            <a:endParaRPr b="0" lang="en-US" sz="2400" spc="-1" strike="noStrike">
              <a:solidFill>
                <a:srgbClr val="ffffff"/>
              </a:solidFill>
              <a:latin typeface="Times New Roman"/>
            </a:endParaRPr>
          </a:p>
          <a:p>
            <a:pPr marL="457200" indent="-457200" algn="just" rtl="1">
              <a:buClr>
                <a:srgbClr val="fafd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cs typeface="Arial"/>
              </a:rPr>
              <a:t>منافع الاصل الاقتصادية المستقبلية</a:t>
            </a: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ea typeface="Arial"/>
              </a:rPr>
              <a:t>	</a:t>
            </a:r>
            <a:r>
              <a:rPr b="0" lang="ar-SA" sz="2400" spc="-1" strike="noStrike">
                <a:solidFill>
                  <a:srgbClr val="fafd00"/>
                </a:solidFill>
                <a:latin typeface="Times New Roman"/>
                <a:cs typeface="Arial"/>
              </a:rPr>
              <a:t>تتحقق دلالة وجود المنافع عن طريق استلام النقدية أو أى عنصر (عملاء) يمكن بيعه وتحويله الى نقد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49" name=""/>
          <p:cNvSpPr/>
          <p:nvPr/>
        </p:nvSpPr>
        <p:spPr>
          <a:xfrm>
            <a:off x="990720" y="1135080"/>
            <a:ext cx="61498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457200" y="650880"/>
            <a:ext cx="8305920" cy="4848840"/>
          </a:xfrm>
          <a:prstGeom prst="rect">
            <a:avLst/>
          </a:prstGeom>
          <a:noFill/>
          <a:ln w="0">
            <a:noFill/>
          </a:ln>
        </p:spPr>
        <p:style>
          <a:lnRef idx="0"/>
          <a:fillRef idx="0"/>
          <a:effectRef idx="0"/>
          <a:fontRef idx="minor"/>
        </p:style>
        <p:txBody>
          <a:bodyPr lIns="90000" rIns="90000" tIns="46800" bIns="46800" anchor="t">
            <a:spAutoFit/>
          </a:bodyPr>
          <a:p>
            <a:pPr marL="399960" indent="-399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التزامات</a:t>
            </a:r>
            <a:endParaRPr b="0" lang="en-US" sz="2400" spc="-1" strike="noStrike">
              <a:solidFill>
                <a:srgbClr val="ffffff"/>
              </a:solidFill>
              <a:latin typeface="Times New Roman"/>
            </a:endParaRPr>
          </a:p>
          <a:p>
            <a:pPr marL="399960" indent="-399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99960" indent="-399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مثل الالتزامات تعهدات على المنشأة لتحويل منافع اقتصادية نتيجة للمعاملات والأحداث السابقة “</a:t>
            </a:r>
            <a:endParaRPr b="0" lang="en-US" sz="2400" spc="-1" strike="noStrike">
              <a:solidFill>
                <a:srgbClr val="ffffff"/>
              </a:solidFill>
              <a:latin typeface="Times New Roman"/>
            </a:endParaRPr>
          </a:p>
          <a:p>
            <a:pPr marL="399960" indent="-399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99960" indent="-399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ea typeface="Times New Roman (Arabic)"/>
              </a:rPr>
              <a:t>1</a:t>
            </a:r>
            <a:r>
              <a:rPr b="1" lang="ar-SA" sz="2400" spc="-1" strike="noStrike">
                <a:solidFill>
                  <a:srgbClr val="fafd00"/>
                </a:solidFill>
                <a:latin typeface="Times New Roman"/>
                <a:ea typeface="Times New Roman (Arabic)"/>
              </a:rPr>
              <a:t>.  </a:t>
            </a:r>
            <a:r>
              <a:rPr b="1" lang="ar-SA" sz="2400" spc="-1" strike="noStrike">
                <a:solidFill>
                  <a:srgbClr val="fafd00"/>
                </a:solidFill>
                <a:latin typeface="Times New Roman"/>
              </a:rPr>
              <a:t>التعهدات</a:t>
            </a:r>
            <a:endParaRPr b="0" lang="en-US" sz="2400" spc="-1" strike="noStrike">
              <a:solidFill>
                <a:srgbClr val="ffffff"/>
              </a:solidFill>
              <a:latin typeface="Times New Roman"/>
            </a:endParaRPr>
          </a:p>
          <a:p>
            <a:pPr marL="399960" indent="-399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قد تكون التزامات قانونية أو غير قانونية ( مثال: الالتزامات الضريبية ).</a:t>
            </a:r>
            <a:endParaRPr b="0" lang="en-US" sz="2400" spc="-1" strike="noStrike">
              <a:solidFill>
                <a:srgbClr val="ffffff"/>
              </a:solidFill>
              <a:latin typeface="Times New Roman"/>
            </a:endParaRPr>
          </a:p>
          <a:p>
            <a:pPr marL="399960" indent="-399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99960" indent="-399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2</a:t>
            </a:r>
            <a:r>
              <a:rPr b="0" lang="ar-SA" sz="2400" spc="-1" strike="noStrike">
                <a:solidFill>
                  <a:srgbClr val="fafd00"/>
                </a:solidFill>
                <a:latin typeface="Times New Roman"/>
              </a:rPr>
              <a:t>.  </a:t>
            </a:r>
            <a:r>
              <a:rPr b="1" lang="ar-SA" sz="2400" spc="-1" strike="noStrike">
                <a:solidFill>
                  <a:srgbClr val="fafd00"/>
                </a:solidFill>
                <a:latin typeface="Times New Roman"/>
              </a:rPr>
              <a:t>تحويل المنافع الاقتصادية</a:t>
            </a:r>
            <a:endParaRPr b="0" lang="en-US" sz="2400" spc="-1" strike="noStrike">
              <a:solidFill>
                <a:srgbClr val="ffffff"/>
              </a:solidFill>
              <a:latin typeface="Times New Roman"/>
            </a:endParaRPr>
          </a:p>
          <a:p>
            <a:pPr marL="399960" indent="-399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قد يتمثل فى تحويل نقدية أو ممتلكات أخرى أو أداء خدمات أو الامتناع عن القيام بأنشطة معينة تؤدى الى تحقيق الربح أو قد يتمثل فى إنشاء التزام آخر لتسوية التزام قائ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51" name=""/>
          <p:cNvSpPr/>
          <p:nvPr/>
        </p:nvSpPr>
        <p:spPr>
          <a:xfrm>
            <a:off x="533520" y="879480"/>
            <a:ext cx="8153280" cy="44830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حقوق الملكيـــــــــــــــــة</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عرف بأنها الرصيد المتبقى بعد طرح كافة الالتزامات من جميع أصول المنشاة  “</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بمجرد زيادة حقوق الملكية تزداد ثروة أصحاب المنشأة بصرف النظر عن إجراء توزيعات للربح أو عدم إجراءها حيث يؤثر ذلك على قيمة السهم.</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يتم عرض حقوق الملكية بشكل يوضح الحقوق الناتجة عن مساهمات أصحاب المنشاة عن تلك التى تحققت من أحداث أخرى مثل الإحتياطيات والارباح المحتجزة وخلاف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52" name=""/>
          <p:cNvSpPr/>
          <p:nvPr/>
        </p:nvSpPr>
        <p:spPr>
          <a:xfrm>
            <a:off x="380880" y="304920"/>
            <a:ext cx="8458200" cy="6357240"/>
          </a:xfrm>
          <a:prstGeom prst="rect">
            <a:avLst/>
          </a:prstGeom>
          <a:noFill/>
          <a:ln w="0">
            <a:noFill/>
          </a:ln>
        </p:spPr>
        <p:style>
          <a:lnRef idx="0"/>
          <a:fillRef idx="0"/>
          <a:effectRef idx="0"/>
          <a:fontRef idx="minor"/>
        </p:style>
        <p:txBody>
          <a:bodyPr lIns="90000" rIns="90000" tIns="46800" bIns="46800" anchor="t">
            <a:spAutoFit/>
          </a:bodyPr>
          <a:p>
            <a:pPr marL="230040" indent="-23004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cs typeface="Times New Roman (Arabic)"/>
              </a:rPr>
              <a:t>الدخل (الربح)</a:t>
            </a:r>
            <a:r>
              <a:rPr b="0" lang="ar-SA" sz="2400" spc="-1" strike="noStrike">
                <a:solidFill>
                  <a:srgbClr val="fafd00"/>
                </a:solidFill>
                <a:latin typeface="Times New Roman"/>
              </a:rPr>
              <a:t> </a:t>
            </a:r>
            <a:endParaRPr b="0" lang="en-US" sz="2400" spc="-1" strike="noStrike">
              <a:solidFill>
                <a:srgbClr val="ffffff"/>
              </a:solidFill>
              <a:latin typeface="Times New Roman"/>
            </a:endParaRPr>
          </a:p>
          <a:p>
            <a:pPr marL="230040" indent="-23004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230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مثل الزيادة فى المنافع الاقتصادية التى تتحقق خلال الفترة المحاسبية عن طريق التدفقات الداخلة ، أو تعظيم قيمة الأصول أو النقص فى الالتزامات ويترتب على ذلك زيادة حقوق الملكية بخلاف الزيادة من مساهمات أصحاب المنشأة“ </a:t>
            </a:r>
            <a:endParaRPr b="0" lang="en-US" sz="2400" spc="-1" strike="noStrike">
              <a:solidFill>
                <a:srgbClr val="ffffff"/>
              </a:solidFill>
              <a:latin typeface="Times New Roman"/>
            </a:endParaRPr>
          </a:p>
          <a:p>
            <a:pPr marL="230040" indent="-230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23004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مصروفــــات</a:t>
            </a:r>
            <a:endParaRPr b="0" lang="en-US" sz="2400" spc="-1" strike="noStrike">
              <a:solidFill>
                <a:srgbClr val="ffffff"/>
              </a:solidFill>
              <a:latin typeface="Times New Roman"/>
            </a:endParaRPr>
          </a:p>
          <a:p>
            <a:pPr marL="230040" indent="-23004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30040" indent="-230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مثل النقص فى المنافع الاقتصادية التى تتحقق خلال الفترة المحاسبية عن طريق التدفقات الخارجة ، أو نقص فى قيمة الأصول أو زيادة فى قيمة الالتزامات ويترتب على ذلك نقص حقوق الملكية بخلاف التدفقات الخارجة التى تتعلق بتوزيعات الأرباح أو تخفيض مساهمات أصحاب المنشأ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380880" y="762120"/>
            <a:ext cx="8229600" cy="5580360"/>
          </a:xfrm>
          <a:prstGeom prst="rect">
            <a:avLst/>
          </a:prstGeom>
          <a:noFill/>
          <a:ln w="0">
            <a:noFill/>
          </a:ln>
        </p:spPr>
        <p:style>
          <a:lnRef idx="0"/>
          <a:fillRef idx="0"/>
          <a:effectRef idx="0"/>
          <a:fontRef idx="minor"/>
        </p:style>
        <p:txBody>
          <a:bodyPr lIns="90000" rIns="90000" tIns="46800" bIns="46800" anchor="t">
            <a:spAutoFit/>
          </a:bodyPr>
          <a:p>
            <a:pPr marL="179280" indent="-55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أهداف لجنة معايير المحاسبة الدولية</a:t>
            </a:r>
            <a:endParaRPr b="0" lang="en-US" sz="2400" spc="-1" strike="noStrike">
              <a:solidFill>
                <a:srgbClr val="ffffff"/>
              </a:solidFill>
              <a:latin typeface="Times New Roman"/>
            </a:endParaRPr>
          </a:p>
          <a:p>
            <a:pPr marL="179280" indent="-55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55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ea typeface="Times New Roman (Arabic)"/>
              </a:rPr>
              <a:t> تطوير مجموعة من معايير المحاسبة على المستوى العالمى لخدمة مصالح العامة، وتكون تلك المعايير ذات جودة عالية وقابلة للفهم والتطبيق.</a:t>
            </a:r>
            <a:endParaRPr b="0" lang="en-US" sz="2400" spc="-1" strike="noStrike">
              <a:solidFill>
                <a:srgbClr val="ffffff"/>
              </a:solidFill>
              <a:latin typeface="Times New Roman"/>
            </a:endParaRPr>
          </a:p>
          <a:p>
            <a:pPr marL="179280" indent="-55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55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ان توفر المعايير المحاسبية معلومات ذات جودة عالية وتتمتع بدرجة كبيرة من الشفافية والقابلية للمقارنة وذلك لمساعدة مستخدمى القوائم المالية على اتخاذ القرارات الاقتصادية.</a:t>
            </a:r>
            <a:endParaRPr b="0" lang="en-US" sz="2400" spc="-1" strike="noStrike">
              <a:solidFill>
                <a:srgbClr val="ffffff"/>
              </a:solidFill>
              <a:latin typeface="Times New Roman"/>
            </a:endParaRPr>
          </a:p>
          <a:p>
            <a:pPr marL="179280" indent="-55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55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تشجيع الاستخدام والتطبيق الدقيق لمعايير المحاسبة الدولية.</a:t>
            </a:r>
            <a:endParaRPr b="0" lang="en-US" sz="2400" spc="-1" strike="noStrike">
              <a:solidFill>
                <a:srgbClr val="ffffff"/>
              </a:solidFill>
              <a:latin typeface="Times New Roman"/>
            </a:endParaRPr>
          </a:p>
          <a:p>
            <a:pPr marL="179280" indent="-55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55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إحداث تقارب بين معايير المحاسبة المحلية ومعايير المحاسبة الدولية وتوفير حلول عالية الجودة.</a:t>
            </a:r>
            <a:endParaRPr b="0" lang="en-US" sz="2400" spc="-1" strike="noStrike">
              <a:solidFill>
                <a:srgbClr val="ffffff"/>
              </a:solidFill>
              <a:latin typeface="Times New Roman"/>
            </a:endParaRPr>
          </a:p>
          <a:p>
            <a:pPr marL="179280" indent="-55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53" name=""/>
          <p:cNvSpPr/>
          <p:nvPr/>
        </p:nvSpPr>
        <p:spPr>
          <a:xfrm>
            <a:off x="304920" y="609480"/>
            <a:ext cx="822960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تحقق</a:t>
            </a:r>
            <a:r>
              <a:rPr b="1" lang="ar-SA" sz="2400" spc="-1" strike="noStrike">
                <a:solidFill>
                  <a:srgbClr val="fafd00"/>
                </a:solidFill>
                <a:latin typeface="Times New Roman"/>
                <a:ea typeface="Times New Roman (Arabic)"/>
              </a:rPr>
              <a:t> (الاعتراف)</a:t>
            </a:r>
            <a:r>
              <a:rPr b="1" lang="ar-SA" sz="2400" spc="-1" strike="noStrike">
                <a:solidFill>
                  <a:srgbClr val="fafd00"/>
                </a:solidFill>
                <a:latin typeface="Times New Roman"/>
              </a:rPr>
              <a:t> </a:t>
            </a:r>
            <a:r>
              <a:rPr b="1" lang="ar-SA" sz="2400" spc="-1" strike="noStrike">
                <a:solidFill>
                  <a:srgbClr val="fafd00"/>
                </a:solidFill>
                <a:latin typeface="Times New Roman"/>
                <a:cs typeface="Times New Roman (Arabic)"/>
              </a:rPr>
              <a:t>بعناصر</a:t>
            </a:r>
            <a:r>
              <a:rPr b="1" lang="ar-SA" sz="2400" spc="-1" strike="noStrike">
                <a:solidFill>
                  <a:srgbClr val="fafd00"/>
                </a:solidFill>
                <a:latin typeface="Times New Roman"/>
              </a:rPr>
              <a:t> القوائم المالية</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يمثل التحقق من عناصر القوائم المالية:</a:t>
            </a: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حديد وجود هذه العناصر. و</a:t>
            </a: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حديد قيمتها الدفترية. و</a:t>
            </a:r>
            <a:endParaRPr b="0" lang="en-US" sz="2400" spc="-1" strike="noStrike">
              <a:solidFill>
                <a:srgbClr val="ffffff"/>
              </a:solidFill>
              <a:latin typeface="Times New Roman"/>
            </a:endParaRPr>
          </a:p>
          <a:p>
            <a:pPr marL="457200" indent="-45720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إفصاح عنها ضمن عناصر القوائم المالية. </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درج العناصر بالقوائم المالية.</a:t>
            </a:r>
            <a:r>
              <a:rPr b="0" lang="ar-SA" sz="2400" spc="-1" strike="noStrike">
                <a:solidFill>
                  <a:srgbClr val="fafd00"/>
                </a:solidFill>
                <a:latin typeface="Times New Roman"/>
              </a:rPr>
              <a:t>	</a:t>
            </a:r>
            <a:r>
              <a:rPr b="0" lang="ar-SA" sz="2400" spc="-1" strike="noStrike">
                <a:solidFill>
                  <a:srgbClr val="fafd00"/>
                </a:solidFill>
                <a:latin typeface="Times New Roman"/>
              </a:rPr>
              <a:t>	</a:t>
            </a:r>
            <a:r>
              <a:rPr b="0" lang="ar-SA" sz="2400" spc="-1" strike="noStrike">
                <a:solidFill>
                  <a:srgbClr val="fafd00"/>
                </a:solidFill>
                <a:latin typeface="Times New Roman"/>
              </a:rPr>
              <a:t>عند إستيفاء كافة شروط التحقق.</a:t>
            </a:r>
            <a:endParaRPr b="0" lang="en-US" sz="2400" spc="-1" strike="noStrike">
              <a:solidFill>
                <a:srgbClr val="ffffff"/>
              </a:solidFill>
              <a:latin typeface="Times New Roman"/>
            </a:endParaRPr>
          </a:p>
          <a:p>
            <a:pPr marL="457200" indent="-45720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لا تدرج العناصر بالقوائم المالية</a:t>
            </a:r>
            <a:r>
              <a:rPr b="0" lang="ar-SA" sz="2400" spc="-1" strike="noStrike">
                <a:solidFill>
                  <a:srgbClr val="fafd00"/>
                </a:solidFill>
                <a:latin typeface="Times New Roman"/>
              </a:rPr>
              <a:t>	</a:t>
            </a:r>
            <a:r>
              <a:rPr b="0" lang="ar-SA" sz="2400" spc="-1" strike="noStrike">
                <a:solidFill>
                  <a:srgbClr val="fafd00"/>
                </a:solidFill>
                <a:latin typeface="Times New Roman"/>
              </a:rPr>
              <a:t>	</a:t>
            </a:r>
            <a:r>
              <a:rPr b="0" lang="ar-SA" sz="2400" spc="-1" strike="noStrike">
                <a:solidFill>
                  <a:srgbClr val="fafd00"/>
                </a:solidFill>
                <a:latin typeface="Times New Roman"/>
              </a:rPr>
              <a:t>عند عدم إستيفاء كافة شروط التحقق.</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ويجب الإفصاح عن ذلك.</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54" name=""/>
          <p:cNvSpPr/>
          <p:nvPr/>
        </p:nvSpPr>
        <p:spPr>
          <a:xfrm>
            <a:off x="5013360" y="1260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
          <p:cNvSpPr/>
          <p:nvPr/>
        </p:nvSpPr>
        <p:spPr>
          <a:xfrm>
            <a:off x="762120" y="725400"/>
            <a:ext cx="800100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Arial"/>
                <a:cs typeface="Arial"/>
              </a:rPr>
              <a:t>تحديد وجود عناصر القوائم المالية</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Arial"/>
                <a:cs typeface="Arial"/>
              </a:rPr>
              <a:t>يتم تحديد وجود عنصر القوائم المالية إذا توافرت أحد المعايير التالية: </a:t>
            </a:r>
            <a:endParaRPr b="0" lang="en-US" sz="2400" spc="-1" strike="noStrike">
              <a:solidFill>
                <a:srgbClr val="ffffff"/>
              </a:solidFill>
              <a:latin typeface="Times New Roman"/>
            </a:endParaRPr>
          </a:p>
          <a:p>
            <a:pPr marL="457200" indent="-457200" algn="r" rtl="1">
              <a:lnSpc>
                <a:spcPct val="100000"/>
              </a:lnSpc>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lnSpc>
                <a:spcPct val="100000"/>
              </a:lnSpc>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Arial"/>
                <a:cs typeface="Arial"/>
              </a:rPr>
              <a:t>أن ينطبق عليه أحد خصائص التعريف لعناصر القوائم المالية.</a:t>
            </a:r>
            <a:endParaRPr b="0" lang="en-US" sz="2400" spc="-1" strike="noStrike">
              <a:solidFill>
                <a:srgbClr val="ffffff"/>
              </a:solidFill>
              <a:latin typeface="Times New Roman"/>
            </a:endParaRPr>
          </a:p>
          <a:p>
            <a:pPr marL="457200" indent="-457200" algn="r" rtl="1">
              <a:lnSpc>
                <a:spcPct val="100000"/>
              </a:lnSpc>
              <a:buClr>
                <a:srgbClr val="fafd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Arial"/>
                <a:cs typeface="Arial"/>
              </a:rPr>
              <a:t>أن تتوافر أدلة كافية بأن التغير فى الاصول أو الالتزامات المتعلقة بالعنصر قد حدث (التدفقات الداخلة أو الخارجة سوف تحدث)</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Arial"/>
                <a:cs typeface="Arial"/>
              </a:rPr>
              <a:t>مثــــــال:</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Arial"/>
              </a:rPr>
              <a:t>      </a:t>
            </a:r>
            <a:r>
              <a:rPr b="0" lang="ar-SA" sz="2400" spc="-1" strike="noStrike">
                <a:solidFill>
                  <a:srgbClr val="fafd00"/>
                </a:solidFill>
                <a:latin typeface="Arial"/>
                <a:cs typeface="Arial"/>
              </a:rPr>
              <a:t>العقد يكون ملزما حتى لو لم يتم تنفيذه ، مثل الوعود التى أعطيت الى أطراف خارجية لتحويل أرصدة فى المستقبل.</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56" name=""/>
          <p:cNvSpPr/>
          <p:nvPr/>
        </p:nvSpPr>
        <p:spPr>
          <a:xfrm>
            <a:off x="304920" y="609480"/>
            <a:ext cx="861048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تحديد القيمة الدفترية لعنصر القوائم المالية (إمكانية القياس النقدى بدرجة يمكن الاعتماد عل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يتطلب الامر فى بعض الأحوال تقدير بعض العناصر (الإهلاكات ، المستحقات )</a:t>
            </a:r>
            <a:r>
              <a:rPr b="0" lang="ar-EG" sz="2400" spc="-1" strike="noStrike">
                <a:solidFill>
                  <a:srgbClr val="fafd00"/>
                </a:solidFill>
                <a:latin typeface="Times New Roman"/>
                <a:ea typeface="Times New Roman (Arabic)"/>
              </a:rPr>
              <a:t>.</a:t>
            </a:r>
            <a:endParaRPr b="0" lang="en-US" sz="2400" spc="-1" strike="noStrike">
              <a:solidFill>
                <a:srgbClr val="ffffff"/>
              </a:solidFill>
              <a:latin typeface="Times New Roman"/>
            </a:endParaRPr>
          </a:p>
          <a:p>
            <a:pPr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يكون استخدام التقديرات المحاسبية مقبولا بشرط أن تكون هذه التقديرات مناسبة ومتحفظ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أمثــــــلة:</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اعتراف بالأرباح فى العقود طويلة الأجل بشرط التقدير المناسب والمتحفظ لنسبة الإنجاز والربح.</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الاعتراف بالخسائر الناتجة عن الالتزامات المحتملة بشرط التقدير المناسب والمتحفظ لقيمة تلك الخسائر.</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57" name=""/>
          <p:cNvSpPr/>
          <p:nvPr/>
        </p:nvSpPr>
        <p:spPr>
          <a:xfrm>
            <a:off x="228600" y="955800"/>
            <a:ext cx="8305920" cy="375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اعتراف بالأصول والالتزام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يتم الاعتراف بالأصول والالتزامات على ثلاثة مراح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1" lang="ar-SA" sz="2400" spc="-1" strike="noStrike">
                <a:solidFill>
                  <a:srgbClr val="fafd00"/>
                </a:solidFill>
                <a:latin typeface="Times New Roman"/>
              </a:rPr>
              <a:t>الاعتراف المبدئى</a:t>
            </a:r>
            <a:r>
              <a:rPr b="0" lang="ar-SA" sz="2400" spc="-1" strike="noStrike">
                <a:solidFill>
                  <a:srgbClr val="fafd00"/>
                </a:solidFill>
                <a:latin typeface="Times New Roman"/>
              </a:rPr>
              <a:t>  (الاعتراف بأحد عناصر الأصول الثابتة عند الاقتناء).</a:t>
            </a:r>
            <a:endParaRPr b="0" lang="en-US" sz="2400" spc="-1" strike="noStrike">
              <a:solidFill>
                <a:srgbClr val="ffffff"/>
              </a:solidFill>
              <a:latin typeface="Times New Roman"/>
            </a:endParaRPr>
          </a:p>
          <a:p>
            <a:pPr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1" lang="ar-SA" sz="2400" spc="-1" strike="noStrike">
                <a:solidFill>
                  <a:srgbClr val="fafd00"/>
                </a:solidFill>
                <a:latin typeface="Times New Roman"/>
              </a:rPr>
              <a:t>إعادة القياس اللاحق</a:t>
            </a:r>
            <a:r>
              <a:rPr b="0" lang="ar-SA" sz="2400" spc="-1" strike="noStrike">
                <a:solidFill>
                  <a:srgbClr val="fafd00"/>
                </a:solidFill>
                <a:latin typeface="Times New Roman"/>
              </a:rPr>
              <a:t>  (إعادة تقييم الأصل السابق اقتناء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1" lang="ar-SA" sz="2400" spc="-1" strike="noStrike">
                <a:solidFill>
                  <a:srgbClr val="fafd00"/>
                </a:solidFill>
                <a:latin typeface="Times New Roman"/>
              </a:rPr>
              <a:t>الاستبعاد</a:t>
            </a:r>
            <a:r>
              <a:rPr b="0" lang="ar-SA" sz="2400" spc="-1" strike="noStrike">
                <a:solidFill>
                  <a:srgbClr val="fafd00"/>
                </a:solidFill>
                <a:latin typeface="Times New Roman"/>
              </a:rPr>
              <a:t>  (بيع الأصل أو إزالت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58" name=""/>
          <p:cNvSpPr/>
          <p:nvPr/>
        </p:nvSpPr>
        <p:spPr>
          <a:xfrm>
            <a:off x="457200" y="533520"/>
            <a:ext cx="8229600" cy="5214600"/>
          </a:xfrm>
          <a:prstGeom prst="rect">
            <a:avLst/>
          </a:prstGeom>
          <a:noFill/>
          <a:ln w="0">
            <a:noFill/>
          </a:ln>
        </p:spPr>
        <p:style>
          <a:lnRef idx="0"/>
          <a:fillRef idx="0"/>
          <a:effectRef idx="0"/>
          <a:fontRef idx="minor"/>
        </p:style>
        <p:txBody>
          <a:bodyPr lIns="90000" rIns="90000" tIns="46800" bIns="46800" anchor="t">
            <a:spAutoFit/>
          </a:bodyPr>
          <a:p>
            <a:pPr marL="338040" indent="-230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اعتراف بالإيرادات</a:t>
            </a:r>
            <a:endParaRPr b="0" lang="en-US" sz="2400" spc="-1" strike="noStrike">
              <a:solidFill>
                <a:srgbClr val="ffffff"/>
              </a:solidFill>
              <a:latin typeface="Times New Roman"/>
            </a:endParaRPr>
          </a:p>
          <a:p>
            <a:pPr marL="338040" indent="-230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23004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تحقق الإيرادات والمكاسب عند وجود زيادة فى أصول المنشأة أو عند تخفيض التزاماتها قبل انتهاء الفترة المحاسبة. </a:t>
            </a:r>
            <a:endParaRPr b="0" lang="en-US" sz="2400" spc="-1" strike="noStrike">
              <a:solidFill>
                <a:srgbClr val="ffffff"/>
              </a:solidFill>
              <a:latin typeface="Times New Roman"/>
            </a:endParaRPr>
          </a:p>
          <a:p>
            <a:pPr marL="338040" indent="-23004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23004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إن الإيراد الذى يدرج فى قائمة الدخل لابد وأن يكون تحقق حيث تستخدم تلك القائمة فى قياس أداء المنشأة.</a:t>
            </a:r>
            <a:endParaRPr b="0" lang="en-US" sz="2400" spc="-1" strike="noStrike">
              <a:solidFill>
                <a:srgbClr val="ffffff"/>
              </a:solidFill>
              <a:latin typeface="Times New Roman"/>
            </a:endParaRPr>
          </a:p>
          <a:p>
            <a:pPr marL="338040" indent="-23004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23004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تمثل شروط تحقق الإيراد فيما يلى:</a:t>
            </a:r>
            <a:endParaRPr b="0" lang="en-US" sz="2400" spc="-1" strike="noStrike">
              <a:solidFill>
                <a:srgbClr val="ffffff"/>
              </a:solidFill>
              <a:latin typeface="Times New Roman"/>
            </a:endParaRPr>
          </a:p>
          <a:p>
            <a:pPr lvl="1" marL="1077840" indent="-457200" algn="just" rtl="1">
              <a:lnSpc>
                <a:spcPct val="100000"/>
              </a:lnSpc>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ea typeface="Times New Roman"/>
              </a:rPr>
              <a:t> توافر أدلة واضحة عن وجودها الفعلى. و</a:t>
            </a:r>
            <a:endParaRPr b="0" lang="en-US" sz="2400" spc="-1" strike="noStrike">
              <a:solidFill>
                <a:srgbClr val="ffffff"/>
              </a:solidFill>
              <a:latin typeface="Times New Roman"/>
            </a:endParaRPr>
          </a:p>
          <a:p>
            <a:pPr lvl="1" marL="1077840" indent="-457200" algn="just" rtl="1">
              <a:lnSpc>
                <a:spcPct val="100000"/>
              </a:lnSpc>
              <a:buClr>
                <a:srgbClr val="fafd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ea typeface="Times New Roman"/>
              </a:rPr>
              <a:t> توافر أدلة عن القيمة التى يجب أن تدرج بها (تحقيق المقابل النقدى أو يمكن تحولها الى نقدية وأن يكون ذلك مضمونا بدرجة معقولة).</a:t>
            </a:r>
            <a:endParaRPr b="0" lang="en-US" sz="2400" spc="-1" strike="noStrike">
              <a:solidFill>
                <a:srgbClr val="ffffff"/>
              </a:solidFill>
              <a:latin typeface="Times New Roman"/>
            </a:endParaRPr>
          </a:p>
          <a:p>
            <a:pPr lvl="1" marL="1077840" indent="-45720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59" name=""/>
          <p:cNvSpPr/>
          <p:nvPr/>
        </p:nvSpPr>
        <p:spPr>
          <a:xfrm>
            <a:off x="533520" y="1143000"/>
            <a:ext cx="7696080" cy="249408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اعتراف بالمصروفـــــــــات</a:t>
            </a:r>
            <a:endParaRPr b="0" lang="en-US" sz="2400" spc="-1" strike="noStrike">
              <a:solidFill>
                <a:srgbClr val="ffffff"/>
              </a:solidFill>
              <a:latin typeface="Times New Roman"/>
            </a:endParaRPr>
          </a:p>
          <a:p>
            <a:pPr marL="168120" indent="-1681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تحقق المصروفات والخسائر عند وجود نقص فى أصول المنشأة أو عند زيادة التزاماتها قبل انتهاء الفترة المحاسبية.</a:t>
            </a:r>
            <a:endParaRPr b="0" lang="en-US" sz="2400" spc="-1" strike="noStrike">
              <a:solidFill>
                <a:srgbClr val="ffffff"/>
              </a:solidFill>
              <a:latin typeface="Times New Roman"/>
            </a:endParaRPr>
          </a:p>
          <a:p>
            <a:pPr marL="168120" indent="-168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60" name=""/>
          <p:cNvSpPr/>
          <p:nvPr/>
        </p:nvSpPr>
        <p:spPr>
          <a:xfrm>
            <a:off x="609480" y="762120"/>
            <a:ext cx="8077320" cy="599148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afd00"/>
                </a:solidFill>
                <a:latin typeface="Times New Roman"/>
              </a:rPr>
              <a:t>تبنت لجنة معايير المحاسبة الدولية مدخل الميزانية فيما يتعلق بتحقق الإيرادات والمصروفات والمكاسب والخسائر وهو يختلف عن مدخل المعاملات الذى يتناوله معيار </a:t>
            </a:r>
            <a:r>
              <a:rPr b="0" lang="ar-SA" sz="2400" spc="-1" strike="noStrike">
                <a:solidFill>
                  <a:srgbClr val="fafd00"/>
                </a:solidFill>
                <a:latin typeface="Times New Roman"/>
                <a:cs typeface="Times New Roman (Arabic)"/>
              </a:rPr>
              <a:t>المحاسبة</a:t>
            </a:r>
            <a:r>
              <a:rPr b="0" lang="ar-SA" sz="2400" spc="-1" strike="noStrike">
                <a:solidFill>
                  <a:srgbClr val="fafd00"/>
                </a:solidFill>
                <a:latin typeface="Times New Roman"/>
              </a:rPr>
              <a:t> المصرى رقم (</a:t>
            </a:r>
            <a:r>
              <a:rPr b="0" lang="ar-SA" sz="2400" spc="-1" strike="noStrike">
                <a:solidFill>
                  <a:srgbClr val="fafd00"/>
                </a:solidFill>
                <a:latin typeface="Times New Roman"/>
              </a:rPr>
              <a:t>11</a:t>
            </a:r>
            <a:r>
              <a:rPr b="0" lang="ar-SA" sz="2400" spc="-1" strike="noStrike">
                <a:solidFill>
                  <a:srgbClr val="fafd00"/>
                </a:solidFill>
                <a:latin typeface="Times New Roman"/>
              </a:rPr>
              <a:t>) الخاص بتحقق الإيراد حيث ينص على الاعتراف بهذه العناصر عند توافر شروط محددة أخرى.</a:t>
            </a:r>
            <a:endParaRPr b="0" lang="en-US" sz="2400" spc="-1" strike="noStrike">
              <a:solidFill>
                <a:srgbClr val="ffffff"/>
              </a:solidFill>
              <a:latin typeface="Times New Roman"/>
            </a:endParaRPr>
          </a:p>
          <a:p>
            <a:pPr marL="108000" indent="-108000" algn="just" rtl="1">
              <a:spcBef>
                <a:spcPts val="15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spcBef>
                <a:spcPts val="1500"/>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استبعاد (إلغاء تحقق الإيراد)</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 يكون استبعاد الإيراد مطلوبا عند إلغاء حدث سبق الاعتراف به كأصل أو كالتزام أو عندما تصبح الأدلة التى تم الحصول عليها غير كافية أو غير ملائمة للاستمرار فى عملية الاعتراف.</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61" name=""/>
          <p:cNvSpPr/>
          <p:nvPr/>
        </p:nvSpPr>
        <p:spPr>
          <a:xfrm>
            <a:off x="609480" y="838080"/>
            <a:ext cx="7696440" cy="49093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طرق قياس عناصر القوائم المالية</a:t>
            </a:r>
            <a:endParaRPr b="0" lang="en-US" sz="2400" spc="-1" strike="noStrike">
              <a:solidFill>
                <a:srgbClr val="ffffff"/>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طريقة التكلفة التاريخية</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طريقة التكلفة الجارية.</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طريقة القيمة التى يمكن تحقيقها. (القيمة السوقية)</a:t>
            </a: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spcBef>
                <a:spcPts val="1500"/>
              </a:spcBef>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طريقة القيمة الح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62" name=""/>
          <p:cNvSpPr/>
          <p:nvPr/>
        </p:nvSpPr>
        <p:spPr>
          <a:xfrm>
            <a:off x="533520" y="228600"/>
            <a:ext cx="7696080" cy="6181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طريقة التكلفة التاريخ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سجل الأصول بقيمة النقدية او المقابل النقدى المحدد أو بالقيمة العادلة للمقابل الذى قدم عند اقتناء الاصول ، فى حين تسجل الالتزامات بقيمة المتحصلات المستلمة مقابل تحمل هذا الالتزام.</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طريقة التكلفة الجار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قيم الأصول بقيمة النقدية أو ما يعادلها المطلوبة لاقتنائها الآن. كما يتم تقييم الالتزامات بالقيمة غير المخصومة المطلوبة حاليا للوفاء بهذه الالتزامات.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63" name=""/>
          <p:cNvSpPr/>
          <p:nvPr/>
        </p:nvSpPr>
        <p:spPr>
          <a:xfrm>
            <a:off x="380880" y="1184400"/>
            <a:ext cx="8382240" cy="44982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طريقة القيمة السوق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قيم الأصول بالقيمة التى يمكن الحصول عليها عند بيع الأصول ، كما تقيم الالتزامات بالقيمة المطلوبة لتسويتها التى تمثل المبلغ المطلوب لسدادها فى الظروف العاد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طريقة القيمة الحالية</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يتم تقييم الاصول بالقيمة الحالية المخصومة للتدفقات النقدية المستقبلية التى من المتوقع أن تحققها تلك الأصول فى ظل الظروف العادية. كما يتم تقييم الالتزامات بالقيمة الحالية للتدفقات النقدية المستقبلية المطلوبة للوفاء بهذه الالتزام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457200" y="1523880"/>
            <a:ext cx="8305920" cy="3385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التزام بمعايير المحاسبة الدول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abic)"/>
              </a:rPr>
              <a:t>تضمن بعض الدول الأخرى حد ادنى من الفروق بين معاييرها المحلية ومعايير المحاسبة الدولي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64" name=""/>
          <p:cNvSpPr/>
          <p:nvPr/>
        </p:nvSpPr>
        <p:spPr>
          <a:xfrm>
            <a:off x="457200" y="380880"/>
            <a:ext cx="8381880" cy="7409160"/>
          </a:xfrm>
          <a:prstGeom prst="rect">
            <a:avLst/>
          </a:prstGeom>
          <a:noFill/>
          <a:ln w="0">
            <a:noFill/>
          </a:ln>
        </p:spPr>
        <p:style>
          <a:lnRef idx="0"/>
          <a:fillRef idx="0"/>
          <a:effectRef idx="0"/>
          <a:fontRef idx="minor"/>
        </p:style>
        <p:txBody>
          <a:bodyPr lIns="90000" rIns="90000" tIns="46800" bIns="46800" anchor="t">
            <a:spAutoFit/>
          </a:bodyPr>
          <a:p>
            <a:pPr marL="338040" indent="-338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مفهوم رأس المال والمحافظة عليه</a:t>
            </a:r>
            <a:endParaRPr b="0" lang="en-US" sz="2400" spc="-1" strike="noStrike">
              <a:solidFill>
                <a:srgbClr val="ffffff"/>
              </a:solidFill>
              <a:latin typeface="Times New Roman"/>
            </a:endParaRPr>
          </a:p>
          <a:p>
            <a:pPr marL="338040" indent="-338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338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هناك مفهومان للمحافظة على رأس المال:</a:t>
            </a:r>
            <a:endParaRPr b="0" lang="en-US" sz="2400" spc="-1" strike="noStrike">
              <a:solidFill>
                <a:srgbClr val="ffffff"/>
              </a:solidFill>
              <a:latin typeface="Times New Roman"/>
            </a:endParaRPr>
          </a:p>
          <a:p>
            <a:pPr marL="338040" indent="-338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33804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محافظة على رأس المال المالى.</a:t>
            </a:r>
            <a:endParaRPr b="0" lang="en-US" sz="2400" spc="-1" strike="noStrike">
              <a:solidFill>
                <a:srgbClr val="ffffff"/>
              </a:solidFill>
              <a:latin typeface="Times New Roman"/>
            </a:endParaRPr>
          </a:p>
          <a:p>
            <a:pPr lvl="1" marL="452520" indent="619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cs typeface="Times New Roman"/>
              </a:rPr>
              <a:t>إن الأرباح يتم اكتسابها عندما يكون صافى الأصول فى نهاية الفترة المحاسبية يزيد على قيمة صافى الاصول فى بداية الفترة المحاسبية.</a:t>
            </a:r>
            <a:endParaRPr b="0" lang="en-US" sz="2400" spc="-1" strike="noStrike">
              <a:solidFill>
                <a:srgbClr val="ffffff"/>
              </a:solidFill>
              <a:latin typeface="Times New Roman"/>
            </a:endParaRPr>
          </a:p>
          <a:p>
            <a:pPr marL="338040" indent="-33804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338040" algn="r"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محافظة على رأس المال المادى.</a:t>
            </a:r>
            <a:endParaRPr b="0" lang="en-US" sz="2400" spc="-1" strike="noStrike">
              <a:solidFill>
                <a:srgbClr val="ffffff"/>
              </a:solidFill>
              <a:latin typeface="Times New Roman"/>
            </a:endParaRPr>
          </a:p>
          <a:p>
            <a:pPr marL="338040" indent="-338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0" lang="ar-SA" sz="2400" spc="-1" strike="noStrike">
                <a:solidFill>
                  <a:srgbClr val="fafd00"/>
                </a:solidFill>
                <a:latin typeface="Times New Roman"/>
              </a:rPr>
              <a:t>إن الأرباح يتم اكتسابها عندما تزيد القدرة الإنتاجية الفعلية للنشاط فى نهاية الفترة المحاسبية عنها فى بداية الفترة المحاسبية. ويتطلب هذا المفهوم استخدام طريقة التكلفة الجارية كأساس لقياس عناصر القوائم المالية.</a:t>
            </a:r>
            <a:endParaRPr b="0" lang="en-US" sz="2400" spc="-1" strike="noStrike">
              <a:solidFill>
                <a:srgbClr val="ffffff"/>
              </a:solidFill>
              <a:latin typeface="Times New Roman"/>
            </a:endParaRPr>
          </a:p>
          <a:p>
            <a:pPr marL="338040" indent="-338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33804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يحدد كل من أساس القياس وكذا مفهوم المحافظة على رأس المال المعالجة المحاسبية التى تستخدم عند إعداد القوائم المالية.</a:t>
            </a:r>
            <a:endParaRPr b="0" lang="en-US" sz="2400" spc="-1" strike="noStrike">
              <a:solidFill>
                <a:srgbClr val="ffffff"/>
              </a:solidFill>
              <a:latin typeface="Times New Roman"/>
            </a:endParaRPr>
          </a:p>
          <a:p>
            <a:pPr marL="338040" indent="-338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8040" indent="-338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65" name=""/>
          <p:cNvSpPr/>
          <p:nvPr/>
        </p:nvSpPr>
        <p:spPr>
          <a:xfrm>
            <a:off x="1600200" y="1136520"/>
            <a:ext cx="586728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معيار المحاسبة الدولى رقم (</a:t>
            </a:r>
            <a:r>
              <a:rPr b="1" lang="ar-SA" sz="2200" spc="-1" strike="noStrike">
                <a:solidFill>
                  <a:srgbClr val="fafd00"/>
                </a:solidFill>
                <a:latin typeface="Univers 45 Light"/>
                <a:ea typeface="Times New Roman (Arabic)"/>
              </a:rPr>
              <a:t>1</a:t>
            </a:r>
            <a:r>
              <a:rPr b="1" lang="ar-SA" sz="2200" spc="-1" strike="noStrike">
                <a:solidFill>
                  <a:srgbClr val="fafd00"/>
                </a:solidFill>
                <a:latin typeface="Univers 45 Light"/>
                <a:ea typeface="Times New Roman (Arabic)"/>
              </a:rPr>
              <a:t>) ”المعدل“ عرض القوائم المالية</a:t>
            </a:r>
            <a:endParaRPr b="0" lang="en-US" sz="2200" spc="-1" strike="noStrike">
              <a:solidFill>
                <a:srgbClr val="ffffff"/>
              </a:solidFill>
              <a:latin typeface="Times New Roman"/>
            </a:endParaRPr>
          </a:p>
        </p:txBody>
      </p:sp>
      <p:sp>
        <p:nvSpPr>
          <p:cNvPr id="266" name=""/>
          <p:cNvSpPr/>
          <p:nvPr/>
        </p:nvSpPr>
        <p:spPr>
          <a:xfrm>
            <a:off x="533520" y="2579760"/>
            <a:ext cx="7924680" cy="2440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مقدم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يتناول هذا المعيار فقط المفاهيم الأساسية للمحاسبة والإفصاح عن السياسات المحاسبية كما يتناول الأمور المتعلقة بعرض الأصول والالتزامات المتداولة فضلا عن المعلومات التي يتعين الإفصاح عنها في القوائم الما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67" name=""/>
          <p:cNvSpPr/>
          <p:nvPr/>
        </p:nvSpPr>
        <p:spPr>
          <a:xfrm>
            <a:off x="380880" y="762120"/>
            <a:ext cx="8382240" cy="6797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مفاهيم الأساسية للمحاسب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مفهوم الاستحقاق</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ويعنى أن يتم الاعتراف بالعمليات والأحداث عند حدوثها وليس عند سداد أو تحصيل النقدية كما يتم الاعتراف بالمصروفات في قائمة الدخل على أساس الارتباط المباشر بين التكاليف التي حدثت واكتساب الإيراد المرتبط به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مفهوم الاستمرار</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وهو يعنى انه طالما أن إدارة المنشاة مقتنعة بأنه لا يوجد أي عدم تأكد جوهري عن قدرة المشاة على عدم الاستمرار في المستقبل المنظور فيجب إعداد القوائم المالية بفرض أن المنشاة مستمر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مفهوم تجانس العرض</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المحافظة على طريقة عرض وتبويب عناصر القوائم المالية من فترة إلى أخرى إلا إذ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إذا كان من الواضح أن التغيير سيؤدى إلى عرض اكثر ملائمة. أو</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أن يكون التغيير مطلوبا من أحد المعايير الدولية أو تفسيراتها أو بموجب قانون.</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68" name=""/>
          <p:cNvSpPr/>
          <p:nvPr/>
        </p:nvSpPr>
        <p:spPr>
          <a:xfrm>
            <a:off x="380880" y="914400"/>
            <a:ext cx="8458200" cy="5456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مفهوم الأهمية والتجميع</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كون العنصر مهم أو جوهري إذا ترتب على حذفه أو عرضه بطريقة غير ملائمة التأثير على القرارات الاقتصادية التي يتخذها مستخدم القوائم الما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المقاص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ea typeface="Times New Roman (Arabic)"/>
              </a:rPr>
              <a:t> </a:t>
            </a:r>
            <a:r>
              <a:rPr b="0" lang="ar-SA" sz="2200" spc="-1" strike="noStrike">
                <a:solidFill>
                  <a:srgbClr val="fafd00"/>
                </a:solidFill>
                <a:latin typeface="Univers 45 Light"/>
                <a:cs typeface="Times New Roman (Arabic)"/>
              </a:rPr>
              <a:t>يجب عدم إجراء المقاصة بين الأصول والالتزامات إلا إذا كان هناك حق قانوني يسمح بالمقاصة أو كان ذلك مطلوبا من أحد معايير المحاسبة الدولية أو تفسيراته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المعلومات المقارن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ea typeface="Times New Roman (Arabic)"/>
              </a:rPr>
              <a:t> </a:t>
            </a:r>
            <a:r>
              <a:rPr b="0" lang="ar-SA" sz="2200" spc="-1" strike="noStrike">
                <a:solidFill>
                  <a:srgbClr val="fafd00"/>
                </a:solidFill>
                <a:latin typeface="Univers 45 Light"/>
                <a:cs typeface="Times New Roman (Arabic)"/>
              </a:rPr>
              <a:t>يجب الإفصاح عن المعلومات المقارنة للفترة السابقة إلا إذا كان أحد المعايير المحاسبية الدولية يسمح أو يتطلب شيئا آخر.</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69" name=""/>
          <p:cNvSpPr/>
          <p:nvPr/>
        </p:nvSpPr>
        <p:spPr>
          <a:xfrm>
            <a:off x="533520" y="762120"/>
            <a:ext cx="8153280" cy="5456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سياسات المحاسب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على المنشاة اختيار وتطبيق سياسات محاسبية ملائمة حتى تتفق القوائم المالية مع معايير المحاسبة الدولية وتفسيراتها، وفى حالة عدم وجود متطلبات خاصة يجب اختيار السياسات التي تتصف بما يلي:</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ملائمة لاحتياجات المستخدمين للقوائم الما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مكن الاعتماد عليها بحيث يتوافر فيها ما يلي:</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ea typeface="Times New Roman (Arabic)"/>
              </a:rPr>
              <a:t>   -  تعبر بصدق عن نتائج الأعمال والمركز المالي.</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ea typeface="Times New Roman (Arabic)"/>
              </a:rPr>
              <a:t>   -  تعكس الجوهر الاقتصادي للأحداث والمعاملات وليس شكلها القانوني.</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ea typeface="Times New Roman (Arabic)"/>
              </a:rPr>
              <a:t>   -  محايدة وخالية من التحيز</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ea typeface="Times New Roman (Arabic)"/>
              </a:rPr>
              <a:t>   -  سياسة متحفظ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ea typeface="Times New Roman (Arabic)"/>
              </a:rPr>
              <a:t>   -  تتصف بالاكتمال في كل جوانبها الهام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0" name=""/>
          <p:cNvSpPr/>
          <p:nvPr/>
        </p:nvSpPr>
        <p:spPr>
          <a:xfrm>
            <a:off x="533520" y="838080"/>
            <a:ext cx="8229600" cy="5121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تفسير لجنة التفسيرات الدائمة رقم (</a:t>
            </a:r>
            <a:r>
              <a:rPr b="1" lang="ar-SA" sz="2200" spc="-1" strike="noStrike">
                <a:solidFill>
                  <a:srgbClr val="fafd00"/>
                </a:solidFill>
                <a:latin typeface="Univers 45 Light"/>
                <a:ea typeface="Times New Roman (Arabic)"/>
              </a:rPr>
              <a:t>8</a:t>
            </a:r>
            <a:r>
              <a:rPr b="1" lang="ar-SA"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فى اول فترة تطبق فيها معايير المحاسبة الدولية فى إعداد القوائم المالية، يجب إعداد القوائم المالية كما لو كانت تلك القوائم تعد دائما طبقا لمعايير المحاسبة الدولية إلا إذا كانت مبالغ التسويات المطلوب إجرائها للفترات السابقة من الصعب تحديدها ففى هذه الحالة يلزم الافصاح عن تلك الحقيق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تفسير لجنة التفسيرات الدائمة رقم (</a:t>
            </a:r>
            <a:r>
              <a:rPr b="1" lang="ar-SA" sz="2200" spc="-1" strike="noStrike">
                <a:solidFill>
                  <a:srgbClr val="fafd00"/>
                </a:solidFill>
                <a:latin typeface="Univers 45 Light"/>
                <a:ea typeface="Times New Roman (Arabic)"/>
              </a:rPr>
              <a:t>18</a:t>
            </a:r>
            <a:r>
              <a:rPr b="1" lang="ar-SA"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عندما توجد اكثر من طريقة مسموح بها طبقا للمعايير الدولية  للمحاسبة عن عنصر ما يجب على المنشاة اختيار واستخدام نفس الطريقة المحاسبية بصفة مستمرة على ان يتم اختيار السياسة الاكثر ملائم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1" name=""/>
          <p:cNvSpPr/>
          <p:nvPr/>
        </p:nvSpPr>
        <p:spPr>
          <a:xfrm>
            <a:off x="380880" y="990720"/>
            <a:ext cx="8229600" cy="4786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تحديد القوائم المالية</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ان تكون القوائم المالية محددة بوضوح ومميزة عن المعلومات الاخرى المنشورة فى نفس التقرير</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تحديد كل مكون من مكونات القوائم المالية بوضوح.</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الافصاح عن أسم المنشاة التى يتم التقرير عنه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الافصاح عن ما إذا كانت القوائم المالية تغطى منشاة واحدة أو مجموعة منشآت.</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الافصاح عن تاريخ الميزانية و الفترة التى تغطيها القوائم الما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الافصاح عن العملة التى يتم التقرير به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الافصاح عن مستوى الدقة المستخدمة فى عرض أرقام القوائم الما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2" name=""/>
          <p:cNvSpPr/>
          <p:nvPr/>
        </p:nvSpPr>
        <p:spPr>
          <a:xfrm>
            <a:off x="228600" y="762120"/>
            <a:ext cx="8686800" cy="64620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فترة التى تغطيها القوائم الما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أن تعرض القوائم المالية على الاقل سنويا، وعندما تعرض القوائم المالية عن فترة أطول من او اقل من سنة يجب الافصاح عن ذلك وأسبابه وحقيقة ان ارقام المقارنة بالنسبة لقائمة الدخل ، التغير فى حقوق المساهمين، قائمة التدفقات النقدية والايضاحات المتممة غير قابلة للمقارنة.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تصنيف العناصر المتداولة وغير المتداولة بالميزان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لم يتطلب المعيار المعدل معالجات خاصة على الرغم من ان النماذج المرفقة بالمعيار فيما يخص عرض بنود الميزانية تضمنت الفصل بين العناصر المتداولة وغير المتداول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إذا لم يتم الفصل بين العناصر المتداولة وغير المتداولة عندئذ فإن الاصول والالتزامات يجب ان تعرض بشكل أوسع حسب درجة سيولتها وفى جميع الاحوال يجب على المنشاة ان توضح بالنسبة لكل عنصر من عناصر الاصول والالتزامات المبالغ المتوقع ان يتم تسويتها أو استردادها قبل أو بعد اثنى عشر شهرا من تاريخ الميزان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3" name=""/>
          <p:cNvSpPr/>
          <p:nvPr/>
        </p:nvSpPr>
        <p:spPr>
          <a:xfrm>
            <a:off x="228600" y="380880"/>
            <a:ext cx="8686800" cy="679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تصنيف الاصول كأصول متداول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كون من المتوقع أن يتحقق او ان يتم الاحتفاظ بها للبيع أو يستهلك خلال الدورة التشغيلية العادية للمنشاة. او</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تم الاحتفاظ به مبدئيا بهدف المتاجرة أو لفترة قصيرة (اثنى عشر شهرا من تاريخ الميزانية) أو</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نقدية أو ما فى حكمها غير المشروطة ولا يكون استخدامها مقيد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تصنيف الالتزامات المتداول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كون من المتوقع ان يتم تسويتها خلال الدورة التشغيلية العادية للمنشاة. أو</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أنه من المتوقع أن يتم تسويتها خلال اثنى عشر شهرا من تاريخ الميزان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يمكن تصنيف الالتزامات المتداولة باعتبارها التزامات غير متداولة عندم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نوى المنشاة إعادة جدولة التزاماتها المتداولة أو إعادة التمويل على اساس طويل الاجل. و</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هذه النية مؤيدة باتفاق لإعادة الجدولة للمدفوعات أو لإعادة التمويل والتى يتم الاتفاق عليها قبل اعتماد القوائم المالية.</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4" name=""/>
          <p:cNvSpPr/>
          <p:nvPr/>
        </p:nvSpPr>
        <p:spPr>
          <a:xfrm>
            <a:off x="457200" y="609480"/>
            <a:ext cx="8305920" cy="612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معلومات يم الافصاح عنها فى صلب الميزانية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عقارات والآلات والمعدات</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اصول غير الملموس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اصول المالية (بخلاف الاستثمارات طويلة الاجل، والعملاء والنقدية وما فى حكمه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ستثمارات يتم المحاسبة عنها بطريقة حقوق الملك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مخزون</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عملاء.</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نقدية وما فى حكمه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موردون</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تزامات وأصول ضريبية الجارية والمؤجل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مخصصات</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تزامات غير متداول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حقوق الاقل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رأس المال والاحتياطيات والارباح المحتجز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457200" y="574560"/>
            <a:ext cx="815328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إجراءات إعداد معيار محاسبة دولى</a:t>
            </a:r>
            <a:endParaRPr b="0" lang="en-US" sz="2400" spc="-1" strike="noStrike">
              <a:solidFill>
                <a:srgbClr val="ffffff"/>
              </a:solidFill>
              <a:latin typeface="Times New Roman"/>
            </a:endParaRPr>
          </a:p>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400" spc="-1" strike="noStrike">
              <a:solidFill>
                <a:srgbClr val="ffffff"/>
              </a:solidFill>
              <a:latin typeface="Times New Roman"/>
            </a:endParaRPr>
          </a:p>
          <a:p>
            <a:pPr marL="457200" indent="-45720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بموجب موافقة </a:t>
            </a:r>
            <a:r>
              <a:rPr b="0" lang="ar-SA" sz="2400" spc="-1" strike="noStrike">
                <a:solidFill>
                  <a:srgbClr val="fafd00"/>
                </a:solidFill>
                <a:latin typeface="Times New Roman"/>
                <a:cs typeface="Times New Roman (Arabic)"/>
              </a:rPr>
              <a:t>ثلثى</a:t>
            </a:r>
            <a:r>
              <a:rPr b="0" lang="ar-SA" sz="2400" spc="-1" strike="noStrike">
                <a:solidFill>
                  <a:srgbClr val="fafd00"/>
                </a:solidFill>
                <a:latin typeface="Times New Roman"/>
              </a:rPr>
              <a:t> أعضاء المجلس على المسودة، يتم نشرها ودعوة الجهات المهتمة إلى تقديم آرائها ومقترحاتها.</a:t>
            </a:r>
            <a:endParaRPr b="0" lang="en-US" sz="2400" spc="-1" strike="noStrike">
              <a:solidFill>
                <a:srgbClr val="ffffff"/>
              </a:solidFill>
              <a:latin typeface="Times New Roman"/>
            </a:endParaRPr>
          </a:p>
          <a:p>
            <a:pPr marL="457200" indent="-45720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بعد المراجعة النهائية لمسودة المناقشة يتم نشر هذه المسودة كمعيار وذلك بعد موافقة ثلاثة أرباع أعضاء المجلس على الاقل.</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5" name=""/>
          <p:cNvSpPr/>
          <p:nvPr/>
        </p:nvSpPr>
        <p:spPr>
          <a:xfrm>
            <a:off x="533520" y="685800"/>
            <a:ext cx="8283600" cy="5456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معلومات يتم عرضها إما فى صلب الميزانية او فى الايضاحات المتممة للقوائم المال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مبالغ التى سيتم سدادها بواسطة الشركة الام والشركات التابعة أو الشركات الشقيقة او أى أطراف ذات علاقة اخرى.</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عدد الاسهم المصرح بها والمصدرة والمدفوعة بالكامل والمصدرة وغير مدفوع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قيمة الاسمية للسهم</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سوية عدد الاسهم القائمة فى بداية ونهاية السن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حقوق والامتياز والقيود المتصلة بالاسهم.</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سهم حقوق الاختيار</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أسهم الخزانة للشركة </a:t>
            </a:r>
            <a:r>
              <a:rPr b="0" lang="ar-EG" sz="2200" spc="-1" strike="noStrike">
                <a:solidFill>
                  <a:srgbClr val="fafd00"/>
                </a:solidFill>
                <a:latin typeface="Univers 45 Light"/>
                <a:cs typeface="Times New Roman (Arabic)"/>
              </a:rPr>
              <a:t>أو</a:t>
            </a:r>
            <a:r>
              <a:rPr b="0" lang="ar-SA" sz="2200" spc="-1" strike="noStrike">
                <a:solidFill>
                  <a:srgbClr val="fafd00"/>
                </a:solidFill>
                <a:latin typeface="Univers 45 Light"/>
                <a:ea typeface="Times New Roman (Arabic)"/>
              </a:rPr>
              <a:t> الشركات المرتبطة بها.</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وصف الاحتياطيات وطبيعتها</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قتراح التوزيعات التى لم يتم إقرارها بعد.</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6" name=""/>
          <p:cNvSpPr/>
          <p:nvPr/>
        </p:nvSpPr>
        <p:spPr>
          <a:xfrm>
            <a:off x="304920" y="914400"/>
            <a:ext cx="8458200" cy="411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معلومات يم الافصاح عنها فى صلب قائمة الدخل</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ايرادات</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نتائج وانشطة التشغيل.</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تكاليف التمويل.</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حصة الشركة فى الارباح والخسائر للشركات الشقيقة أو المشروعات المشترك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مصروفات الضرائب</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ارباح والخسائر من الانشطة العاد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عناصر غير العاد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حقوق الاقلية فى الربح</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صافة الارباح او الخسائر للفترة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7" name=""/>
          <p:cNvSpPr/>
          <p:nvPr/>
        </p:nvSpPr>
        <p:spPr>
          <a:xfrm>
            <a:off x="228600" y="762120"/>
            <a:ext cx="8686800" cy="5791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معلومات يتم عرضها إما فى صلب قائمة الدخل او فى الايضاحات المتممة للقوائم المال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تم العرض فى صلب قائمة الدخل او فى الايضاحات المتممة تحليل المصروفات إما على اساس طبيعة المصروف أو على الاساس الوظيفى داخل الشرك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فى ظل طريقة التصنيف على اساس طبيعة المصروف يتم تجميع المصروفات فى قائمة الدخل تبعا لطبيعتها (الاهلاك ، مشتريات المواد الخام، تكاليف الانتقال، مرتبات واجور، تكاليف الاعلان) ولا يتم تخصيصها على الوظائف الرئيسية للمنشاة</a:t>
            </a:r>
            <a:r>
              <a:rPr b="0" lang="ar-EG"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فى ظل طريقة التصنيف على الأساس الوظيفي للمصروف ف‘نه يتم تصنيف المصروفات تبعا لوظيفتها كجزء من تكلفة المبيعات والعملية البيعية والأنشطة الإدار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8" name=""/>
          <p:cNvSpPr/>
          <p:nvPr/>
        </p:nvSpPr>
        <p:spPr>
          <a:xfrm>
            <a:off x="380880" y="838080"/>
            <a:ext cx="8382240" cy="478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قائمة التغير فى حقوق الملك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صافى الربح والخسارة للفتر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كل عناصر الدخل والمكاسب والمصروفات والخسائر التي تتطلب المعايير المحاسبية الدولية أن يتم الاعتراف بها مباشرة في حقوق الملك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التأثير التجميعي للتغيرات في السياسات المحاسبية وتصحيح الأخطاء</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عمليات راس المال مع المساهمين وتوزيعات المساهمين.</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حركة ورصيد أي حسابات أخرى من حسابات حقوق الملكية</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79" name=""/>
          <p:cNvSpPr/>
          <p:nvPr/>
        </p:nvSpPr>
        <p:spPr>
          <a:xfrm>
            <a:off x="380880" y="609480"/>
            <a:ext cx="8382240" cy="5121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إفصاحات أخرى</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يجب أن يصف قسم السياسات المحاسبية في الإيضاحات المتممة للقوائم المالية أساس أو أسس القياس المستخدمة لإعداد القوائم المالية وكذا كل السياسات المحاسبية الهامة المستخدم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موطن المنشاة وشكلها القانوني وبلد التسجيل وعنوان المكتب المسجلة به المنشاة فى بلد التأسيس.</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شرح لطبيعة عمليات المنشاة وأنشطتها الرئيس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أسم الشركة الام الرئيسية للمجموع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إما عدد العاملين في نهاية الفترة أو متوسط عددهم خلال الفتر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280" name=""/>
          <p:cNvSpPr/>
          <p:nvPr/>
        </p:nvSpPr>
        <p:spPr>
          <a:xfrm>
            <a:off x="380880" y="762120"/>
            <a:ext cx="8382240" cy="4786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Times New Roman"/>
                <a:cs typeface="Times New Roman (Arabic)"/>
              </a:rPr>
              <a:t>المحاسبة عن الشركات الصغير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برغم الجدل الدائر عن مدى تطبيق معايير المحاسبة الدولية على المنشآت الصغيرة فإن لجن معايير المحاسبة الدولية لا زالت ترى أن مجموعة واحدة من المعايير المحاسبية الدولية يجب ان تكون إلزامية لكل من الشركات الصغيرة والكبير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قام مجلس المعايير المحاسبية بإنجلترا بإصدار معايير للتقارير المالية للمنشآت الصغيرة والتى تمثل متطلبات مبسطة من كل من المعايير المحاسبية المستخدم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afd00"/>
                </a:solidFill>
                <a:latin typeface="Univers 45 Light"/>
                <a:ea typeface="Times New Roman (Arabic)"/>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afd00"/>
                </a:solidFill>
                <a:latin typeface="Univers 45 Light"/>
                <a:cs typeface="Times New Roman (Arabic)"/>
              </a:rPr>
              <a:t>هناك تأييد متزايد وقوى نحو ضرورة تخفيض متطلبات التقرير العامة بالنسبة للمنشآت الصغيرة تطبيقا لمبدأ التكلفة والعائد</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80880" y="685800"/>
            <a:ext cx="8153640" cy="558036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لجنة الدائمة لتفسير معايير المحاسبة الدولية</a:t>
            </a:r>
            <a:endParaRPr b="0" lang="en-US" sz="2400" spc="-1" strike="noStrike">
              <a:solidFill>
                <a:srgbClr val="ffffff"/>
              </a:solidFill>
              <a:latin typeface="Times New Roman"/>
            </a:endParaRPr>
          </a:p>
          <a:p>
            <a:pPr marL="108000" indent="-108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قامت لجنة معايير المحاسبة الدولية عام</a:t>
            </a:r>
            <a:r>
              <a:rPr b="0" lang="ar-SA" sz="2400" spc="-1" strike="noStrike">
                <a:solidFill>
                  <a:srgbClr val="fafd00"/>
                </a:solidFill>
                <a:latin typeface="Times New Roman"/>
              </a:rPr>
              <a:t>19</a:t>
            </a:r>
            <a:r>
              <a:rPr b="0" lang="ar-SA" sz="2400" spc="-1" strike="noStrike">
                <a:solidFill>
                  <a:srgbClr val="fafd00"/>
                </a:solidFill>
                <a:latin typeface="Times New Roman"/>
                <a:ea typeface="Times New Roman (Arabic)"/>
              </a:rPr>
              <a:t>9</a:t>
            </a:r>
            <a:r>
              <a:rPr b="0" lang="ar-SA" sz="2400" spc="-1" strike="noStrike">
                <a:solidFill>
                  <a:srgbClr val="fafd00"/>
                </a:solidFill>
                <a:latin typeface="Times New Roman"/>
              </a:rPr>
              <a:t>7</a:t>
            </a:r>
            <a:r>
              <a:rPr b="0" lang="ar-SA" sz="2400" spc="-1" strike="noStrike">
                <a:solidFill>
                  <a:srgbClr val="fafd00"/>
                </a:solidFill>
                <a:latin typeface="Times New Roman"/>
              </a:rPr>
              <a:t> بتشكيل لجنة التفسير الدائمة يكون الهدف منها التأكد من الالتزام الصحيح بمعايير المحاسبة الدولية.</a:t>
            </a: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endParaRPr b="0" lang="en-US" sz="2400" spc="-1" strike="noStrike">
              <a:solidFill>
                <a:srgbClr val="ffffff"/>
              </a:solidFill>
              <a:latin typeface="Times New Roman"/>
            </a:endParaRPr>
          </a:p>
          <a:p>
            <a:pPr marL="108000" indent="-1080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قوم هذه اللجنة بعملها عن طريق بحث نقاط الخلاف الناتجة عن التفسيرات المخالفة وإصدار تفسير معتمد (تم إصدار حوالى </a:t>
            </a:r>
            <a:r>
              <a:rPr b="0" lang="ar-SA" sz="2400" spc="-1" strike="noStrike">
                <a:solidFill>
                  <a:srgbClr val="fafd00"/>
                </a:solidFill>
                <a:latin typeface="Times New Roman"/>
              </a:rPr>
              <a:t>33</a:t>
            </a:r>
            <a:r>
              <a:rPr b="0" lang="ar-SA" sz="2400" spc="-1" strike="noStrike">
                <a:solidFill>
                  <a:srgbClr val="fafd00"/>
                </a:solidFill>
                <a:latin typeface="Times New Roman"/>
              </a:rPr>
              <a:t> تفسيرا حتى الآن).</a:t>
            </a:r>
            <a:r>
              <a:rPr b="0" lang="ar-SA" sz="2400" spc="-1" strike="noStrike">
                <a:solidFill>
                  <a:srgbClr val="fafd00"/>
                </a:solidFill>
                <a:latin typeface="Times New Roman"/>
                <a:cs typeface="Times New Roman (Arabic)"/>
              </a:rPr>
              <a:t>وتعتبر هذه التفسيرات هامة لأن المعيار المحاسبى الدولى رقم (</a:t>
            </a:r>
            <a:r>
              <a:rPr b="0" lang="ar-SA" sz="2400" spc="-1" strike="noStrike">
                <a:solidFill>
                  <a:srgbClr val="fafd00"/>
                </a:solidFill>
                <a:latin typeface="Times New Roman"/>
                <a:ea typeface="Times New Roman (Arabic)"/>
              </a:rPr>
              <a:t>1</a:t>
            </a:r>
            <a:r>
              <a:rPr b="0" lang="ar-SA" sz="2400" spc="-1" strike="noStrike">
                <a:solidFill>
                  <a:srgbClr val="fafd00"/>
                </a:solidFill>
                <a:latin typeface="Times New Roman"/>
                <a:ea typeface="Times New Roman (Arabic)"/>
              </a:rPr>
              <a:t>) نص على انه لا يمكن وصف القوائم المالية بأنها وفق معايير المحاسبة الدولية إلا إذا طبقت كل معيار محاسبى دولى وكل تفسير من اللجنة الدائمة لتفسير معايير المحاسبة الدو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457200" y="574560"/>
            <a:ext cx="8458200" cy="7409160"/>
          </a:xfrm>
          <a:prstGeom prst="rect">
            <a:avLst/>
          </a:prstGeom>
          <a:noFill/>
          <a:ln w="0">
            <a:noFill/>
          </a:ln>
        </p:spPr>
        <p:style>
          <a:lnRef idx="0"/>
          <a:fillRef idx="0"/>
          <a:effectRef idx="0"/>
          <a:fontRef idx="minor"/>
        </p:style>
        <p:txBody>
          <a:bodyPr lIns="90000" rIns="90000" tIns="46800" bIns="46800" anchor="t">
            <a:spAutoFit/>
          </a:bodyPr>
          <a:p>
            <a:pPr marL="798480" indent="-60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دستور الجديد للجنة معايير المحاسبة الدولية</a:t>
            </a:r>
            <a:endParaRPr b="0" lang="en-US" sz="2400" spc="-1" strike="noStrike">
              <a:solidFill>
                <a:srgbClr val="ffffff"/>
              </a:solidFill>
              <a:latin typeface="Times New Roman"/>
            </a:endParaRPr>
          </a:p>
          <a:p>
            <a:pPr marL="798480" indent="-60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98480" indent="-60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قام مجلس لجنة معايير المحاسبة الدولية باعتماد دستور جديد يتم تطبيقه اعتبارا من عام </a:t>
            </a:r>
            <a:r>
              <a:rPr b="0" lang="ar-SA" sz="2400" spc="-1" strike="noStrike">
                <a:solidFill>
                  <a:srgbClr val="fafd00"/>
                </a:solidFill>
                <a:latin typeface="Times New Roman"/>
              </a:rPr>
              <a:t>2001</a:t>
            </a:r>
            <a:r>
              <a:rPr b="0" lang="ar-SA" sz="2400" spc="-1" strike="noStrike">
                <a:solidFill>
                  <a:srgbClr val="fafd00"/>
                </a:solidFill>
                <a:latin typeface="Times New Roman"/>
              </a:rPr>
              <a:t>.</a:t>
            </a:r>
            <a:endParaRPr b="0" lang="en-US" sz="2400" spc="-1" strike="noStrike">
              <a:solidFill>
                <a:srgbClr val="ffffff"/>
              </a:solidFill>
              <a:latin typeface="Times New Roman"/>
            </a:endParaRPr>
          </a:p>
          <a:p>
            <a:pPr marL="798480" indent="-60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98480" indent="-60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أصبحت لجنة معايير المحاسبة الدولية منذ ذلك التاريخ منظمة مستقلة تتكون من الهيئتين التاليتين:</a:t>
            </a:r>
            <a:endParaRPr b="0" lang="en-US" sz="2400" spc="-1" strike="noStrike">
              <a:solidFill>
                <a:srgbClr val="ffffff"/>
              </a:solidFill>
              <a:latin typeface="Times New Roman"/>
            </a:endParaRPr>
          </a:p>
          <a:p>
            <a:pPr marL="798480" indent="-60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98480" indent="-6012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1" lang="ar-SA" sz="2400" spc="-1" strike="noStrike">
                <a:solidFill>
                  <a:srgbClr val="fafd00"/>
                </a:solidFill>
                <a:latin typeface="Times New Roman"/>
              </a:rPr>
              <a:t>مجلس الأمناء</a:t>
            </a:r>
            <a:r>
              <a:rPr b="0" lang="ar-SA" sz="2400" spc="-1" strike="noStrike">
                <a:solidFill>
                  <a:srgbClr val="fafd00"/>
                </a:solidFill>
                <a:latin typeface="Times New Roman"/>
              </a:rPr>
              <a:t>: الذى يقوم بتعيين أعضاء مجلس الإدارة ويتابع مدى فاعلية مجلس معايير المحاسبة الدولية وكذا مراقبة الموازنة.</a:t>
            </a:r>
            <a:endParaRPr b="0" lang="en-US" sz="2400" spc="-1" strike="noStrike">
              <a:solidFill>
                <a:srgbClr val="ffffff"/>
              </a:solidFill>
              <a:latin typeface="Times New Roman"/>
            </a:endParaRPr>
          </a:p>
          <a:p>
            <a:pPr marL="798480" indent="-60120" algn="just" rtl="1">
              <a:buClr>
                <a:srgbClr val="fafd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a:t>
            </a:r>
            <a:r>
              <a:rPr b="1" lang="ar-SA" sz="2400" spc="-1" strike="noStrike">
                <a:solidFill>
                  <a:srgbClr val="fafd00"/>
                </a:solidFill>
                <a:latin typeface="Times New Roman"/>
              </a:rPr>
              <a:t>لجنة معايير المحاسبة الدولية</a:t>
            </a:r>
            <a:r>
              <a:rPr b="0" lang="ar-SA" sz="2400" spc="-1" strike="noStrike">
                <a:solidFill>
                  <a:srgbClr val="fafd00"/>
                </a:solidFill>
                <a:latin typeface="Times New Roman"/>
              </a:rPr>
              <a:t> (التى تقوم بإصدار معايير المحاسبة الدولية)</a:t>
            </a:r>
            <a:endParaRPr b="0" lang="en-US" sz="2400" spc="-1" strike="noStrike">
              <a:solidFill>
                <a:srgbClr val="ffffff"/>
              </a:solidFill>
              <a:latin typeface="Times New Roman"/>
            </a:endParaRPr>
          </a:p>
          <a:p>
            <a:pPr marL="798480" indent="-60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98480" indent="-60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تستمر الجنة الدائمة لتفسير المعايير فى عملها الخاص بإصدار التفسيرات.</a:t>
            </a:r>
            <a:endParaRPr b="0" lang="en-US" sz="2400" spc="-1" strike="noStrike">
              <a:solidFill>
                <a:srgbClr val="ffffff"/>
              </a:solidFill>
              <a:latin typeface="Times New Roman"/>
            </a:endParaRPr>
          </a:p>
          <a:p>
            <a:pPr marL="798480" indent="-6012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المجلس الاستشارى للمعايير (يتكون من اعضاء من مناطق جغرافية مختلفة ويقوم بتقديم الاستشارات لمجلس معايير المحاسبة الدولية)</a:t>
            </a:r>
            <a:endParaRPr b="0" lang="en-US" sz="2400" spc="-1" strike="noStrike">
              <a:solidFill>
                <a:srgbClr val="ffffff"/>
              </a:solidFill>
              <a:latin typeface="Times New Roman"/>
            </a:endParaRPr>
          </a:p>
          <a:p>
            <a:pPr marL="798480" indent="-60120" algn="r"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152280" y="270000"/>
            <a:ext cx="8839440" cy="8140680"/>
          </a:xfrm>
          <a:prstGeom prst="rect">
            <a:avLst/>
          </a:prstGeom>
          <a:noFill/>
          <a:ln w="0">
            <a:noFill/>
          </a:ln>
        </p:spPr>
        <p:style>
          <a:lnRef idx="0"/>
          <a:fillRef idx="0"/>
          <a:effectRef idx="0"/>
          <a:fontRef idx="minor"/>
        </p:style>
        <p:txBody>
          <a:bodyPr lIns="90000" rIns="90000" tIns="46800" bIns="46800" anchor="t">
            <a:spAutoFit/>
          </a:bodyPr>
          <a:p>
            <a:pPr marL="457200" indent="-349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afd00"/>
                </a:solidFill>
                <a:latin typeface="Times New Roman"/>
              </a:rPr>
              <a:t>العلاقة بين لجنة معايير المحاسبة الدولية والمنظمة الدولية لهيئات أسوق المال</a:t>
            </a:r>
            <a:endParaRPr b="0" lang="en-US" sz="2400" spc="-1" strike="noStrike">
              <a:solidFill>
                <a:srgbClr val="ffffff"/>
              </a:solidFill>
              <a:latin typeface="Times New Roman"/>
            </a:endParaRPr>
          </a:p>
          <a:p>
            <a:pPr marL="457200" indent="-349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3492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تم إبرام اتفاق عام </a:t>
            </a:r>
            <a:r>
              <a:rPr b="0" lang="ar-SA" sz="2400" spc="-1" strike="noStrike">
                <a:solidFill>
                  <a:srgbClr val="fafd00"/>
                </a:solidFill>
                <a:latin typeface="Times New Roman"/>
              </a:rPr>
              <a:t>1995</a:t>
            </a:r>
            <a:r>
              <a:rPr b="0" lang="ar-SA" sz="2400" spc="-1" strike="noStrike">
                <a:solidFill>
                  <a:srgbClr val="fafd00"/>
                </a:solidFill>
                <a:latin typeface="Times New Roman"/>
              </a:rPr>
              <a:t> بين لجنة معايير المحاسبة الدولية والمنظمة الدولية لهيئات أسواق المال ينص على  قيام لجنة معايير المحاسبة الدولية بتطوير مجموعة من المعايير الأساسية على أن تقوم المنظمة الدولية لهيئات أسواق المال بالتوصية بتطبيق هذه المعايير وأنها تمثل أسس محاسبية مقبولة عند إصدار رؤوس الأموال عبر الحدود وكذا عند قيد الاوراق المالية فى البورصات العالمية ومنها بورصات الولايات المتحدة.</a:t>
            </a:r>
            <a:endParaRPr b="0" lang="en-US" sz="2400" spc="-1" strike="noStrike">
              <a:solidFill>
                <a:srgbClr val="ffffff"/>
              </a:solidFill>
              <a:latin typeface="Times New Roman"/>
            </a:endParaRPr>
          </a:p>
          <a:p>
            <a:pPr marL="457200" indent="-349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3492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بناء عليه، قامت لجنة معايير المحاسبة الدولية باستكمال المعايير الاساسية وكذا إصدار معيار المحاسبة الدولى رقم </a:t>
            </a:r>
            <a:r>
              <a:rPr b="0" lang="ar-SA" sz="2400" spc="-1" strike="noStrike">
                <a:solidFill>
                  <a:srgbClr val="fafd00"/>
                </a:solidFill>
                <a:latin typeface="Times New Roman"/>
              </a:rPr>
              <a:t>39</a:t>
            </a:r>
            <a:r>
              <a:rPr b="0" lang="ar-SA" sz="2400" spc="-1" strike="noStrike">
                <a:solidFill>
                  <a:srgbClr val="fafd00"/>
                </a:solidFill>
                <a:latin typeface="Times New Roman"/>
              </a:rPr>
              <a:t> وتم تقديمه للمنظمة الدولية لهيئات أسواق المال لاعتماده.</a:t>
            </a:r>
            <a:endParaRPr b="0" lang="en-US" sz="2400" spc="-1" strike="noStrike">
              <a:solidFill>
                <a:srgbClr val="ffffff"/>
              </a:solidFill>
              <a:latin typeface="Times New Roman"/>
            </a:endParaRPr>
          </a:p>
          <a:p>
            <a:pPr marL="457200" indent="-3492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349200" algn="just" rtl="1">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afd00"/>
                </a:solidFill>
                <a:latin typeface="Times New Roman"/>
              </a:rPr>
              <a:t> قامت المنظمة الدولية لهيئات أسواق المال فى مايو </a:t>
            </a:r>
            <a:r>
              <a:rPr b="0" lang="ar-SA" sz="2400" spc="-1" strike="noStrike">
                <a:solidFill>
                  <a:srgbClr val="fafd00"/>
                </a:solidFill>
                <a:latin typeface="Times New Roman"/>
              </a:rPr>
              <a:t>2000</a:t>
            </a:r>
            <a:r>
              <a:rPr b="0" lang="ar-SA" sz="2400" spc="-1" strike="noStrike">
                <a:solidFill>
                  <a:srgbClr val="fafd00"/>
                </a:solidFill>
                <a:latin typeface="Times New Roman"/>
              </a:rPr>
              <a:t> باعتماد المعايير المحاسبية والتوصية لأعضائها أن يقرروا 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أسواق أو التى ترفق مع نشرات الاكتتاب لدى هذه الاسواق.</a:t>
            </a:r>
            <a:endParaRPr b="0" lang="en-US" sz="2400" spc="-1" strike="noStrike">
              <a:solidFill>
                <a:srgbClr val="ffffff"/>
              </a:solidFill>
              <a:latin typeface="Times New Roman"/>
            </a:endParaRPr>
          </a:p>
          <a:p>
            <a:pPr marL="457200" indent="-349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80880" y="685800"/>
            <a:ext cx="8458200" cy="7132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دور لجنة معايير المحاسبة الدولية المتغير والمتطور</a:t>
            </a:r>
            <a:endParaRPr b="0" lang="en-US" sz="2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يمكن تقسيم الفلسفة التى تقوم عليها لجنة معايير المحاسبة الدولية الى ثلاث مراحل زمن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عندما بدأت اللجنة عملها كانت حريصة على ان تكون معاييرها شاملة بالقدر المستطاع حتى يتمكن اكبر عدد ممكن من الدول من الموافقة على الالتزام بها ومن ثم شملت على العديد من الاختيارات فى المعالجات المحاسبية.</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منذ عام </a:t>
            </a:r>
            <a:r>
              <a:rPr b="1" lang="ar-SA" sz="2200" spc="-1" strike="noStrike">
                <a:solidFill>
                  <a:srgbClr val="fafd00"/>
                </a:solidFill>
                <a:latin typeface="Univers 45 Light"/>
                <a:ea typeface="Times New Roman (Arabic)"/>
              </a:rPr>
              <a:t>1990</a:t>
            </a:r>
            <a:r>
              <a:rPr b="1" lang="ar-SA" sz="2200" spc="-1" strike="noStrike">
                <a:solidFill>
                  <a:srgbClr val="fafd00"/>
                </a:solidFill>
                <a:latin typeface="Univers 45 Light"/>
                <a:ea typeface="Times New Roman (Arabic)"/>
              </a:rPr>
              <a:t> وبعد ان اصبحت المعايير المحاسبية الدولية مقبولة بصفة عامة بدأت اللجنة فى تخفيض الاختيارات المسموح بها فى معايير المحاسبة الدولية عن كريق تحديد معالجة قياسية مفضلة ومعالجات بديلة مسموح بها.</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afd00"/>
                </a:solidFill>
                <a:latin typeface="Univers 45 Light"/>
                <a:cs typeface="Times New Roman (Arabic)"/>
              </a:rPr>
              <a:t>اعتبارا من عام </a:t>
            </a:r>
            <a:r>
              <a:rPr b="1" lang="ar-SA" sz="2200" spc="-1" strike="noStrike">
                <a:solidFill>
                  <a:srgbClr val="fafd00"/>
                </a:solidFill>
                <a:latin typeface="Univers 45 Light"/>
                <a:ea typeface="Times New Roman (Arabic)"/>
              </a:rPr>
              <a:t>2000</a:t>
            </a:r>
            <a:r>
              <a:rPr b="1" lang="ar-SA" sz="2200" spc="-1" strike="noStrike">
                <a:solidFill>
                  <a:srgbClr val="fafd00"/>
                </a:solidFill>
                <a:latin typeface="Univers 45 Light"/>
                <a:ea typeface="Times New Roman (Arabic)"/>
              </a:rPr>
              <a:t> وصلت لجنة المعايير الى المعايير المصدق عليها من المنظمة الدولية للأوراق المالية وأصبحت كل من السلطات الامريكية والاوروبية تدعم المعايير الدولية حيث أعلنت المفوضية الاوروبية ان جميع الشركات المدرجة فى أسواق المال للاتحاد الاوروبى يجب عليها أن تعد قوائمها المالية باستخدام معايير المحاسبة الدولية اعتبارا من عام </a:t>
            </a:r>
            <a:r>
              <a:rPr b="1" lang="ar-SA" sz="2200" spc="-1" strike="noStrike">
                <a:solidFill>
                  <a:srgbClr val="fafd00"/>
                </a:solidFill>
                <a:latin typeface="Univers 45 Light"/>
                <a:ea typeface="Times New Roman (Arabic)"/>
              </a:rPr>
              <a:t>2005</a:t>
            </a:r>
            <a:r>
              <a:rPr b="1" lang="ar-SA" sz="2200" spc="-1" strike="noStrike">
                <a:solidFill>
                  <a:srgbClr val="fafd00"/>
                </a:solidFill>
                <a:latin typeface="Univers 45 Light"/>
                <a:ea typeface="Times New Roman (Arabic)"/>
              </a:rPr>
              <a: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8T11:49:02Z</dcterms:created>
  <dc:creator>Administrator</dc:creator>
  <dc:description/>
  <dc:language>en-US</dc:language>
  <cp:lastModifiedBy>Administrator</cp:lastModifiedBy>
  <dcterms:modified xsi:type="dcterms:W3CDTF">2005-03-05T22:48:03Z</dcterms:modified>
  <cp:revision>55</cp:revision>
  <dc:subject/>
  <dc:title>PowerPoint Presentation</dc:title>
</cp:coreProperties>
</file>